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7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25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3.jpeg" ContentType="image/jpeg"/>
  <Override PartName="/ppt/media/image5.jpeg" ContentType="image/jpeg"/>
  <Override PartName="/ppt/media/image2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notesMasterIdLst>
    <p:notesMasterId r:id="rId31"/>
  </p:notes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  <p:sldId id="272" r:id="rId48"/>
    <p:sldId id="273" r:id="rId49"/>
    <p:sldId id="274" r:id="rId50"/>
    <p:sldId id="275" r:id="rId51"/>
    <p:sldId id="276" r:id="rId52"/>
    <p:sldId id="277" r:id="rId53"/>
    <p:sldId id="278" r:id="rId54"/>
    <p:sldId id="279" r:id="rId55"/>
    <p:sldId id="280" r:id="rId56"/>
    <p:sldId id="281" r:id="rId57"/>
    <p:sldId id="282" r:id="rId58"/>
    <p:sldId id="283" r:id="rId59"/>
    <p:sldId id="284" r:id="rId60"/>
    <p:sldId id="285" r:id="rId61"/>
    <p:sldId id="286" r:id="rId62"/>
    <p:sldId id="287" r:id="rId63"/>
    <p:sldId id="288" r:id="rId64"/>
    <p:sldId id="289" r:id="rId65"/>
    <p:sldId id="290" r:id="rId66"/>
    <p:sldId id="291" r:id="rId67"/>
    <p:sldId id="292" r:id="rId68"/>
    <p:sldId id="293" r:id="rId6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notesMaster" Target="notesMasters/notesMaster1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slide" Target="slides/slide17.xml"/><Relationship Id="rId49" Type="http://schemas.openxmlformats.org/officeDocument/2006/relationships/slide" Target="slides/slide18.xml"/><Relationship Id="rId50" Type="http://schemas.openxmlformats.org/officeDocument/2006/relationships/slide" Target="slides/slide19.xml"/><Relationship Id="rId51" Type="http://schemas.openxmlformats.org/officeDocument/2006/relationships/slide" Target="slides/slide20.xml"/><Relationship Id="rId52" Type="http://schemas.openxmlformats.org/officeDocument/2006/relationships/slide" Target="slides/slide21.xml"/><Relationship Id="rId53" Type="http://schemas.openxmlformats.org/officeDocument/2006/relationships/slide" Target="slides/slide22.xml"/><Relationship Id="rId54" Type="http://schemas.openxmlformats.org/officeDocument/2006/relationships/slide" Target="slides/slide23.xml"/><Relationship Id="rId55" Type="http://schemas.openxmlformats.org/officeDocument/2006/relationships/slide" Target="slides/slide24.xml"/><Relationship Id="rId56" Type="http://schemas.openxmlformats.org/officeDocument/2006/relationships/slide" Target="slides/slide25.xml"/><Relationship Id="rId57" Type="http://schemas.openxmlformats.org/officeDocument/2006/relationships/slide" Target="slides/slide26.xml"/><Relationship Id="rId58" Type="http://schemas.openxmlformats.org/officeDocument/2006/relationships/slide" Target="slides/slide27.xml"/><Relationship Id="rId59" Type="http://schemas.openxmlformats.org/officeDocument/2006/relationships/slide" Target="slides/slide28.xml"/><Relationship Id="rId60" Type="http://schemas.openxmlformats.org/officeDocument/2006/relationships/slide" Target="slides/slide29.xml"/><Relationship Id="rId61" Type="http://schemas.openxmlformats.org/officeDocument/2006/relationships/slide" Target="slides/slide30.xml"/><Relationship Id="rId62" Type="http://schemas.openxmlformats.org/officeDocument/2006/relationships/slide" Target="slides/slide31.xml"/><Relationship Id="rId63" Type="http://schemas.openxmlformats.org/officeDocument/2006/relationships/slide" Target="slides/slide32.xml"/><Relationship Id="rId64" Type="http://schemas.openxmlformats.org/officeDocument/2006/relationships/slide" Target="slides/slide33.xml"/><Relationship Id="rId65" Type="http://schemas.openxmlformats.org/officeDocument/2006/relationships/slide" Target="slides/slide34.xml"/><Relationship Id="rId66" Type="http://schemas.openxmlformats.org/officeDocument/2006/relationships/slide" Target="slides/slide35.xml"/><Relationship Id="rId67" Type="http://schemas.openxmlformats.org/officeDocument/2006/relationships/slide" Target="slides/slide36.xml"/><Relationship Id="rId68" Type="http://schemas.openxmlformats.org/officeDocument/2006/relationships/slide" Target="slides/slide37.xml"/><Relationship Id="rId69" Type="http://schemas.openxmlformats.org/officeDocument/2006/relationships/slide" Target="slides/slide38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dt" idx="76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 type="ftr" idx="77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 type="sldNum" idx="78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46C2-3863-4672-A73E-92A12E954F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C0CE-05D0-4AD9-A435-6558857DD1B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0E76-41DB-4E12-9B38-3870DFF3B1EE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F1FA-D3A4-437F-8252-5827B1A1F40F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7985-13A2-4688-BF6F-4A8EAC3E34D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5BF1-4E89-4CC9-8488-B1F64408A314}" type="slidenum">
              <a:rPr b="0" lang="en-GB" sz="1200" spc="-1" strike="noStrike">
                <a:solidFill>
                  <a:srgbClr val="17179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RL setting and consumer risk assessment for all uses resulting in residues in food or fe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8A4F-9732-44B1-8D26-664CDF9F2162}" type="slidenum">
              <a:rPr b="0" lang="en-GB" sz="1200" spc="-1" strike="noStrike">
                <a:solidFill>
                  <a:srgbClr val="17179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D68FA-FBA9-4725-8AFD-EC77B3544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50808-BF62-4463-AF7B-05712ECBB01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999E10-70FD-4C0E-95AB-3CB8CB12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79DD13-155D-4635-A6F8-1797DA77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25BEBA-5846-4CE9-8B43-4E485D8F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9DA4EE-5E69-45E6-BFED-3196D6B7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AD1034-6014-4478-BA09-F236EAC3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B1D20D-1CD0-4ADE-979F-E7DFF4FA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D1333B-6D09-4449-95A6-2060CDD7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D869C6-73AA-4377-AA6F-1F1B76EF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A3EB16-1DED-4ECF-B025-B19C88CF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9AC2CC-0547-4D53-BD80-4350C4C4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08F2D-0D98-4F93-AC7A-2448FC38366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53E389-D03C-43BF-87E2-85C7F4DD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6BED7A-2B01-48C3-BBC6-5773FFD7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8BB704-AB19-4F47-87A9-E1EACE89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C85C21-03E1-4220-8BC0-DD197C0A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8BFC7D-8202-468B-982D-6509B186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E9EF30-53F7-49B5-B1E2-5F9265F3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113F9E-293E-4A55-819F-3E066A15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4D7D17-D52B-4A07-ADFF-CA755487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0A2A74-D89C-4059-A205-74CABCCA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77014D-0A3A-40A5-AEF9-9CF53356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4F432-ED91-4501-BEDD-768DBAD24BF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9821FC-B8E6-4010-B337-F2CFE071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573D35-BD40-434E-AB87-51EE4699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B751FA-4717-4820-BBA5-5CF3717E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8E3927-6752-44FD-8FD4-3FA60ECF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61AB64-9843-46D4-B8CB-14CEE0AE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EEBD67-62B9-4BEB-85CC-A8F724DF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A54540-EC42-4B55-AC73-9BF4E808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BE93C3-CB9F-49B8-97CB-4D5578C1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07BB7D-8FA9-4868-A28F-73796F0E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8F12CD-C6B3-4542-ACD2-38EDE6CF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D32AC-3E35-40A5-B1EE-56C3DC95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917C21-6069-49BA-AA15-F314787C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EFCF4D-E5DF-4B24-9A5E-117A54AE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77EC22-533B-4757-8BC5-14247934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DA19A2-8256-4C75-99FF-D1FE41BF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DFFE46-38B4-45D9-A0F4-39BCEC28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1DE5F8-A5B6-4E5F-A3FD-31129AD2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FE9904-6383-4C96-954B-86ADA975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64D529-58DE-4FC0-A4A6-A65E5A84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36BFBE-2136-4CA7-9362-5027BF49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FEAD38-283B-4E50-B439-5F369805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8DEBC-E90A-4AAC-BA5E-D733AF51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90EE9B-CDD1-4AE2-9EDB-43E97ADC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0712B4-E64D-4063-9DC6-87673A8A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C330E5-B5DF-4433-929E-C2A05081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7E643A-BBB2-4EED-B741-BF33E216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6F6691-DD56-4189-8C43-E4C37EB0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8B3F39-3E40-429D-B32A-20AE0E3B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B3C9DC-870D-48DA-B204-649C94B9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B94B15-A56E-4323-825A-C3E02FD7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053B1D-F9FF-4AB6-BE29-28ACB783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6B88BB-F566-468B-B5CC-E7698E93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3F98B-5288-4DDF-BB1C-84EFEF5B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874B58-4CDC-4BC1-BFB3-8A1A661F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AC7A4B-692A-4E05-B6D8-4FCFD624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BA780C-D3F8-4A24-9E2D-C9F67139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BA10C3-520A-4497-B43E-4F0F2E40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E10DF3-C7D0-4230-A6DC-E38F9915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13859A-5879-4B72-A0B7-FD330BB6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43F6CE-3648-447E-BA7B-EA60D504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61E233-35E3-44F9-B48A-9ECED0EC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F5706E-419E-49EA-BA1D-BC8DAA24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9B1552-CAAD-4194-BD1A-508C4768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DA5AF-F2FD-4851-83EA-09E098A8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E67991-A844-4C44-8A57-9F2358D1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149DFD-C9C9-409D-A29A-E86AA462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D34088-846A-4155-9262-0BE70A6A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490C8D-17DD-494C-B31F-2A46587E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79EF31-A3FD-4D89-B23A-72152DB9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A2C3FD-2C67-4F99-9A9C-E18E0ADA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A43335-34BB-45F6-BF8C-44EFBD2F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763E1C-5BB4-4742-AADD-DBC6FA93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EBDE85-9EBB-409B-8DDF-330F3666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4C7D56-D17C-496C-A849-950EC1A6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4F133-049E-4CF4-8BCB-9FF530E6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323D98-8D03-426E-A0D9-64107D2E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6BCA75-B1F0-4288-ACFC-CF30898B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B9166F-43DA-4A99-916D-CF6BF990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43AE66-9CB7-4ACE-A92B-899D606F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6002D5-2DDE-4EC0-AAC9-27142984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1B9DDD-2AC5-49AD-A2C6-A39943B1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800187-8D34-42CE-9955-C0CF67F1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A7B9A7-34BA-40EB-90DC-C2FE01C2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6D1088-C130-44AC-B6DA-0D6D097F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C0D3D7-281A-4E2A-9C33-4926C0AD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44329-D2C8-4B7F-B643-F354A122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093D98-10A0-4525-AF01-EB40F0B7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ACB2E7-C296-425C-A7D3-E11B6899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C90199-0588-4122-A73B-A7E9F414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EC1F64-C97B-4592-9D88-D4F74BD6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678088-9C24-49F0-BEBE-93630A3C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243716-DFED-40CF-8070-8249037E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822A64-13D4-406A-9CB3-4367066F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A16608-76DF-47B3-A48A-4905B7F3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6FAC88-DCC7-4450-9E58-859C2A19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CC2082-FFD8-4F0D-8D50-E0BFBF4D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28F31-0B12-4AFA-8976-8A6ED014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C70D3B-ECF5-4A82-B422-BD684367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62E9FC-B13A-4E77-A9C3-72E79DB9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5A1392C-FED0-42B2-B9EF-7A38CFA9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C0415F5-DCFC-40DD-8F7A-7ACF7E68DCB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0A903DE-9892-4991-BD53-45E2E97FBDF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D13CE1D-3F14-4348-B8DF-5242CB4BBB3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B01D016-DCCB-4519-81B9-DA3A8CE0B09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527ACE7-3E38-493E-AA30-3C4D95145B1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B743417-4329-4780-AE31-31E98004F0E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FA9B76B-E200-4CA8-BF01-4E3687FFA8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29A01-CCD6-452D-B661-018D62A7B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2AD9C-BF44-4DB8-A7BC-8680272F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CAE3442-3800-4F64-94B5-7D10F650DCB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422B2C8-5E7D-4A95-80C2-3F5035E9457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E6B4C34-FFA5-43E5-B46F-38F67AB8CB7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AEFE634-A2B4-4CE4-9DE3-8BA63C2C4F0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9E54A42-F645-4596-BB47-123F7B31207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203B80-0CAA-4611-96C3-A35B862F579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5CC7EC-C8EB-449F-9D1D-4DBC9968547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E466A9-E597-410C-A6E8-102897BC69F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87BC680-7AD8-474A-8283-3BF3033B20A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6B17194-B74E-4C2D-B60C-B7F3D9D5A4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E4EFB-EED4-4A44-8945-8AE0D1F2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8375232-DD51-4836-A0F6-BCD8CABF1E2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327214-18F4-4774-90CA-1F189D14202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42FB91-2E10-4E2C-99DE-C1C6FD2AD4B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926BB3C-47ED-48F5-BDA0-9D78B2F203F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BEF711-6F09-4ADB-A477-8582B835452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028C1B-29AA-4E62-99E4-FBF71C852CA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DFD896A-52B8-4C3C-9644-E879A303DFE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D0B0307-97A8-4A77-8C76-BE24193436C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1C53EF6-022A-46B3-885E-57AB62A3B10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AFA4906-24A6-42A7-8F27-A4E31BFF51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68A4F-AA1C-4F03-8A68-CA019A74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F1FB22B-6337-4256-89CA-E040A024D91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9EBA564-BFC6-4A79-A1DE-D79BBEF82EA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9468349-17F7-457F-9E4A-0CFF57B5695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26FD135-6AEC-4865-BFD1-92CD33D5BBF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B87850E-6BD3-4FFB-8301-28BAA7F1475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17C15EB-4907-4941-8AEA-3F3F069C362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82A535B-8BAD-4027-8B8D-4F2F04CE955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E02295B-77CD-480B-B521-9F045762F40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5613CCB-FA79-4A83-A7E5-7B86E77B26F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A8E3FDF-D5E1-4522-A7E6-339AFFEE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836AD-E73D-4A7C-8846-178EE88F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0DDC1CE-FA37-4503-A932-0FF202D9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780FBE6-10B8-455B-B9D1-42D45172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3A92174-F2AA-4DB2-A096-E30AD0C0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51C8E9E-2499-4F37-8424-F71D2234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C768515-ADFC-480B-B10C-FA96035A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489C0EE-DE13-4490-9662-3C300163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4D16112-BB37-4C6F-9EA1-103B93BF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46C2E16-316E-4364-A517-AF1DEB49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89FB2A0-CAC5-4BED-BB68-8A66582F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05E31E7-D906-4EB1-A81E-FFC3EC18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3661A-FDE3-49E3-9939-CCE38BC8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2C1CF44-0306-4325-92CB-3BA67158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7408081-03AE-46E9-BE12-0CFFA52E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8745E64-672A-4462-8F2E-6C23CED4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A8ED045-9189-41D1-B4CA-1BE67EDE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445C6F0-6DFE-4B83-AA6F-673D5BD8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E86FBC4-28F4-46C7-8B80-5078755B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5A06BEA-9712-4ABF-8993-B69D0625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AB10C63-5547-401B-A64E-FEC13940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16D7FF0-EA08-40D6-906C-98249EDD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72ECDAC-6F1E-4492-B610-89DA7076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917A5-33B0-49CD-B0AC-FDF35400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32DF700-8AEE-44C9-AF9E-358B4AB2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E61C76B-8D5B-4020-96BF-EA743181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A4E2F36-98F0-4D17-B9D9-BFEEFE7D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7B00349-EDB7-4C1A-819C-568024B9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464B622-846A-4A17-9F5A-27241573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0BF4FB9-253B-4125-BE9D-B2E8A23E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B946ADA-C455-4D6E-A65F-4FB12FB0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2D4B6B3-BEB9-4595-B638-F1DA5D8D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26E9060-9F1A-4729-AF7A-45A297AC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B7C9E0C-FAD7-4C37-B46E-2C8D536B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EC908-297A-430A-9557-4C52B56B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489B526-F244-450D-8953-1DFA9D6D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A9F9E8E-296D-443F-89D1-4D9533D1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6C8CB64-97F4-4F6B-9E9B-1C62F84D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52940FB-EA4E-4331-915F-FF9CF406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CEDAF7B-F03E-4979-9A3C-280E7AEC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72736C4-B301-47FA-8343-08C0A06C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45B0109-9EE5-4C38-8497-4930D3FD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ECBB91E-D104-4B1F-8011-60772BED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827C98C-F2FF-4A9D-A0DA-606CBB0B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C6BFF42-BC4E-4A0A-AE7B-BA2D3998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99654-0AD3-4B3B-B0F1-6BBBCD07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C942C07-4EB4-458B-A117-FADAECCB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A6D7AAC-1201-47F7-B575-39AE8192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0E61814-9003-417C-AFFF-46E43D28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E30BB79-4A13-432A-B105-D404DE4E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7FA25CB-1B39-4AED-BAA1-FF68C996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CD14BE6-3DF6-4925-B045-15B3ADC2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5BB169D-C30B-46C4-A2A3-45BB20BA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B1F6CAF-CCCC-40A3-84C6-8587D94B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1C0E6C7-0902-410B-B373-1474B9BF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E881E0B-9717-42F7-850E-D249876A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85B9E-A3D6-495B-B5FE-3833718D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E4EEB99-E4A3-4984-9FA3-BBD1AD7D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D8AC629-2164-4824-98B0-6F70D10C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B215A3E-BFEA-4F72-A1B3-037A734D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980F88B-385C-4AA9-8E2B-771001E6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CC06321-5C10-495C-B36D-6081DE1D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A599DA4-6229-405E-B7B9-E6CE4C76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8CA6D3D-4793-45F0-AE68-36C73244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1A1E3A2-3B68-4DC1-BE6E-BA584A8B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BD36CEC-0C97-4228-86AC-8177B471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091DB72-BBA1-4F90-9B7A-6A112710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169EC0-E971-42D9-8658-55AC9925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01453D5-C85E-4179-B3F0-0C834A86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AE17C9F-CD94-48AC-A5C0-BB52F2B8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AAF60B7-56C7-4898-A885-302E73FC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5FF7841-733C-4C3B-B0BD-6E3632F4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C6D411D-D133-4B94-9C45-5A87B51D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5450C92-F0F1-4778-B361-9945AF70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FE2B90F-CC7B-425D-A83E-3D8FE0FC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9E095DD-66E7-41D1-ACE0-5762AAB4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585F8C5-3ADC-4B91-879B-2C477099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910DB04-6862-497A-89DA-F34AF90F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B8C33-FAF5-4E47-8B8E-127464BD2F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F51D4-DE0D-48B0-B1EA-59764D77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BA2AAA7-6A85-472E-9B93-7A0DF7D0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DE6A3D2-5888-4D47-B61C-BA73AFE0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88073F4-154E-402A-AE93-9323C21B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00D5816-D9D5-466E-845A-382FD9D1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8BAD73C-34B9-41D1-879C-3C4126D3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20C19BD-A43F-4A6F-B627-F0CE7D44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60C8AB1-FE58-4D92-A356-334A6FF6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1628E11-4085-4A94-A44F-06B56606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4666359-E35B-400C-AA53-162D42F3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C4A5CF9-DA4A-437B-BE19-880B3F70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F0BE3-A325-41E3-97E6-C28A60A5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3A20062-892E-4A7E-81CC-FBD959F0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4543010-162C-401F-9960-F1AA9208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1F551C4-A31A-4704-BEE0-0E6F93C1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586E88D-3511-4C8F-9A28-4BBFAB09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25DF0CB-9D29-4B4B-B510-1ECB40BE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0BF133B-FEAD-42A5-9669-316B8C9B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84420E9-DCCD-46F6-97D9-86E30E70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51C5495-3F9A-4D78-AA28-84ABCA8F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68F1E9C-7C0F-4275-B103-11D081FE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19ED4D6-129B-4414-807B-01EDAC04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1E567-1D65-44C5-B0EB-829FC169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D8ED632-3D3C-4358-A398-0813CA23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E2FA147-2860-4EEB-900C-0FE08576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C6E4A5F-3D00-4268-A37A-E06B51FF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A97B348-2D38-49BA-9EFC-6BC05634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FB3BE1E-7CF7-4E2C-9A26-6B06BCB8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32AA98E-B47D-47F2-AB65-3802B666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2017D82-6427-4F07-A9AE-26B0B2F6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B066EDF-5674-4D5A-B497-6CD82F95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4ABE1AA-6F02-4AED-B2AD-04A188DC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FE1DC33-3E93-46C9-99CA-8D66CA84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FE902-A8D7-4826-9A76-813D1030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F528477-8AF8-4201-B791-EE0D3D05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EBAE535-9283-4F65-B9CB-48693273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C50513C-46C8-4FCA-8E02-A7701DC0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2A108F4-EF0B-4D0C-B4A3-17D090C5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E048D8C-FA91-4275-9FE3-2F12EB39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A553A80-9310-4981-8907-0F2B329B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C42B52E-1D2B-44D5-90B0-D04C79A8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53E5AE-74CB-4A1C-B1BB-4DF7CC2FAABE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3D3FE1-60A6-4B6A-AED9-9F2D74E23050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64E491-651A-40EA-AE66-AD1E7C2FE6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CADDD-E38D-4429-A50D-4967C5DA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018CFB-078D-4179-A954-1E08E7B1B8ED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5F2430-3007-467F-8C84-B2BF2AD3A6F6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9EB7CC-F259-4DB4-BE15-9D74CC3D8A32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C8FBC8-B3B8-4259-8951-6A14FCBBA102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751159-2FF6-4989-A2F0-D082503BEC43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D3D658-222C-4D76-8A42-832851B85093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E2E4A3-C89B-45EA-ACD7-279084E744EF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80535F-DC1A-4B4E-A32B-B60C1353D26C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56A8FE-C611-4DAA-BBF3-E20EFC3E44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E5544-0B65-4D60-A653-0BB607D3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D16CA-AA67-426D-95F2-A203E6EB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CCCFF-9C9A-448D-9B4A-BD69A502D7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924D7-7465-4CC1-8783-D50A104EFE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9ABF4-B298-4D90-99EC-D039187ED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F051D-1444-4615-940D-866E3215DE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86CCC-3796-4A15-921F-1EEC14D6CB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F3AE1-4966-4F42-B07E-614C168ABE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2C64C-54F7-498E-ACD1-BE6D7BAD541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08AD3-CA14-430A-ACCD-50D33760F1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1CD4A-27CB-4909-AB09-AE864FED5E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B69A5-AD51-41CA-A79E-25116F8626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69A9C-B719-45DD-AFB1-4E671B1493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7696D-2525-4589-99E4-0D8DA3149B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25F58-9F6A-4273-96AB-1F6F1AB6F98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4616A-7B57-450E-BD7C-6DC7C4A6264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75A9F-88D5-4224-B60C-7E71D836F6C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F6365-6037-4048-86A8-383C4CEB3C8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AA39B-7B75-4C10-8013-31ED0DBE529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9A68B-584B-4561-88ED-9B439A371B4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70A9F-06CC-415C-9A1B-57DC1A5417C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57686-6A70-41BF-8481-E92B0EC677F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8C352-67DA-4276-B306-B458CEE4AE6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3F27B-C3D2-4452-A4D4-57FA20E5C7E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DB201-FD42-4F67-9E9C-987876C954D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F4030-3C50-4687-8CFC-E89CC8A9E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87FFE-12F3-463E-AD20-1DBC028E6D4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72CDF-F536-4AA6-BE8C-704D9DD1A31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6772F-F9AA-44F0-AD7B-8F26DA1B616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37DDA-CCE8-48B5-85D1-72F29438B6E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F5A10E-459D-488C-BF6E-DF4F397D25C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B8FC50-B1A4-4B60-843E-BF56317EC8C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83A0E0-743A-4316-9B60-041A61CD191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BF5A76-B68C-4BCB-85D4-BFE661A3010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AD923C-7345-4383-9998-FADA2AB64CF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CBA8B1-910D-4D36-9D4A-40852ABC53B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94C383-486B-4EAE-AE32-6C9056A83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A11D4-C8C2-48CE-A4AB-CF6671A8D76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950031-BD39-441F-AF04-B81DDEEA0FE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24BF76-9C1B-4CED-B3DB-B3FA0F84944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3CECA4-8EAB-4F7E-AD2A-12CDA04A3F8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5A01D-1C4C-448E-B962-38BF1497CE0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5FECDE-EF15-4113-B032-D95ADA52961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83FAA9-8D3D-469A-9245-32E5C23F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AA7894-5F80-4F3A-9577-58188FB6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CE2C4E-1129-4079-8F66-CDB460A2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837DF8-A136-4CFD-A9D5-0D3424B3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6115AB-53E0-47E6-B416-EBCC5A5D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3D1DC-251F-4550-8B08-5C772AAAE8D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141231-4CD8-4922-BF46-5F86ECBE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1B1C5-9FCB-4F60-830D-400DFAC1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9C6F38-316F-4B47-BB6E-475F6369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CB6B0B-426F-4094-9AF9-AD83B435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465547-B0CA-4F7F-AB73-1F08C81C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056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75056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784D20-FF1A-4DF5-B561-816B598E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596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84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596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984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00B324-FBEA-4191-929B-0A55BCF1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7356DA-F08A-4C21-AFCE-168A4A13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D78D80-9417-4AA4-8C99-76B8C05A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1BE84E-9509-464E-AF40-56AE8FAF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07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 Pro"/>
              </a:rPr>
              <a:t>SH Platform, 22 June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C181-E597-4DE0-8B3D-B6BB70B6208D}" type="slidenum">
              <a:rPr b="1" lang="en-GB" sz="1200" spc="-1" strike="noStrike">
                <a:solidFill>
                  <a:srgbClr val="000000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8649-CD8C-4846-9714-8B4465A8E64C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6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7482-4906-4868-9A54-AE5B6A50E431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9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A1F1-06A8-4CDB-B07D-2B8149D66DAB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0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2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6D4C-83E6-4A48-B503-223CBB024C7C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5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972F-60E1-4A86-A37D-6227F6FCA4F2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6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8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E70B-16C9-4A54-9FEF-8C7979EB9A46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9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1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A5B8-BB39-4058-A5FE-6EEDA22D2F7D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42"/>
          </p:nvPr>
        </p:nvSpPr>
        <p:spPr>
          <a:xfrm>
            <a:off x="179280" y="645300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4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08F6-CC65-4D1C-A822-2A533817AF07}" type="slidenum">
              <a:rPr b="1" lang="en-GB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sldNum" idx="44"/>
          </p:nvPr>
        </p:nvSpPr>
        <p:spPr>
          <a:xfrm>
            <a:off x="7772040" y="63244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75D2-4CA9-4AD1-8EB8-DABBA9404365}" type="slidenum">
              <a:rPr b="1" lang="en-US" sz="1200" spc="-1" strike="noStrike">
                <a:solidFill>
                  <a:srgbClr val="fffff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45"/>
          </p:nvPr>
        </p:nvSpPr>
        <p:spPr>
          <a:xfrm>
            <a:off x="107640" y="6308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46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1724-35A1-4090-9C84-38068C8C7CE8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E3FA-5422-400A-BE91-9A0E986A5B17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4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4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49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178D-A360-4425-BA57-BBE097D75F7B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0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2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BEB5-6D98-4F66-9F15-0B88973791EE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5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5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55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7EAA-AED5-486F-96C3-D45969B170FC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56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5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58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B666-72BA-415B-B001-11FEC87C98F5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59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1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9961-743F-4FFF-B489-0FC2FBA60BFB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2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4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B7B1-C9C5-4FC8-A277-EDBF68E1CDEB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65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6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67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B682-2C47-45FD-91E7-D0230E97D766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68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6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0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AEC5-ED7D-43A6-AE3A-CEAAC222833B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7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7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7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3586-9968-468C-8B8F-C0F53C32AC75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ftr" idx="74"/>
          </p:nvPr>
        </p:nvSpPr>
        <p:spPr>
          <a:xfrm>
            <a:off x="179280" y="6453000"/>
            <a:ext cx="28958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sldNum" idx="75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FCAC-934D-4E45-AAEE-CA35F2C1E621}" type="slidenum">
              <a:rPr b="1" lang="en-GB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6E6F-FE35-4E15-9F78-746B9FFBB690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7772040" y="63244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5D6E-946E-4E00-90EE-3AA3C22182D6}" type="slidenum">
              <a:rPr b="1" lang="en-GB" sz="1200" spc="-1" strike="noStrike">
                <a:solidFill>
                  <a:srgbClr val="fffff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Afbeelding 5" descr="140259-EFSA_PPTemplate_v5-hom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3487320" y="3686040"/>
            <a:ext cx="459756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900" spc="-1" strike="noStrike">
                <a:solidFill>
                  <a:srgbClr val="de700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e7008"/>
                </a:solidFill>
                <a:latin typeface="Times New Roman"/>
              </a:rPr>
              <a:t>Subtitle or location, </a:t>
            </a:r>
            <a:fld id="{8DC67A24-05E9-458F-98C1-F1136130AC63}" type="datetime">
              <a:rPr b="0" lang="en-US" sz="1900" spc="-1" strike="noStrike">
                <a:solidFill>
                  <a:srgbClr val="de7008"/>
                </a:solidFill>
                <a:latin typeface="Times New Roman"/>
              </a:rPr>
              <a:t>07/29/26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481560" y="2339640"/>
            <a:ext cx="51019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1717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Times New Roman"/>
              </a:rPr>
              <a:t>Main title  +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Times New Roman"/>
              </a:rPr>
              <a:t>space for a longer title on two or more li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2"/>
          </p:nvPr>
        </p:nvSpPr>
        <p:spPr>
          <a:xfrm>
            <a:off x="7772040" y="63244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FFF9-482B-48D8-9CDB-03D2880C8E46}" type="slidenum">
              <a:rPr b="1" lang="en-US" sz="1200" spc="-1" strike="noStrike">
                <a:solidFill>
                  <a:srgbClr val="ffffff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3"/>
          </p:nvPr>
        </p:nvSpPr>
        <p:spPr>
          <a:xfrm>
            <a:off x="107640" y="6308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4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CC88-E2E2-44C6-872B-94EB3404CEC6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5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7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C71F-420E-4353-940B-92BFDD4BD9FC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yriad Pro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Click to edit the outline text forma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con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2" marL="11430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Third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3" marL="16002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our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4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Fif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5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ix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6" marL="2057400" indent="-228600">
              <a:spcBef>
                <a:spcPts val="700"/>
              </a:spcBef>
              <a:buClr>
                <a:srgbClr val="171796"/>
              </a:buClr>
              <a:buFont typeface="Myriad Pr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96"/>
                </a:solidFill>
                <a:latin typeface="Myriad Pro"/>
              </a:rPr>
              <a:t>Seventh Outline Leve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8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1796"/>
                </a:solidFill>
                <a:latin typeface="Myriad Pro"/>
              </a:rPr>
              <a:t>24th SHP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0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71796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3DA9-7EB1-4349-940E-03AE9CD2F200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fsa.europa.eu/en/efsajournal/pub/3589.htm" TargetMode="External"/><Relationship Id="rId2" Type="http://schemas.openxmlformats.org/officeDocument/2006/relationships/hyperlink" Target="http://www.efsa.europa.eu/en/efsajournal/pub/3471.htm" TargetMode="External"/><Relationship Id="rId3" Type="http://schemas.openxmlformats.org/officeDocument/2006/relationships/hyperlink" Target="http://www.efsa.europa.eu/en/efsajournal/pub/3472.htm" TargetMode="External"/><Relationship Id="rId4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28760" y="2786040"/>
            <a:ext cx="815328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GB" sz="3600" spc="-1" strike="noStrike">
                <a:solidFill>
                  <a:srgbClr val="171796"/>
                </a:solidFill>
                <a:latin typeface="Myriad Pro"/>
              </a:rPr>
              <a:t>Current trends and developments in the risk assessment of plant protection products</a:t>
            </a:r>
            <a:br>
              <a:rPr sz="3600"/>
            </a:br>
            <a:br>
              <a:rPr sz="3600"/>
            </a:b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Mr Chris Lythgo</a:t>
            </a:r>
            <a:br>
              <a:rPr sz="2000"/>
            </a:b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Pesticides Unit</a:t>
            </a:r>
            <a:br>
              <a:rPr sz="3200"/>
            </a:br>
            <a:endParaRPr b="0" lang="en-US" sz="20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86" name="Rectangle 3"/>
          <p:cNvSpPr/>
          <p:nvPr/>
        </p:nvSpPr>
        <p:spPr>
          <a:xfrm>
            <a:off x="573120" y="5468760"/>
            <a:ext cx="81280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Myriad Pro"/>
              </a:rPr>
              <a:t>Visit of the Brazilian technical mission</a:t>
            </a:r>
            <a:endParaRPr b="0" lang="en-US" sz="25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ffffff"/>
                </a:solidFill>
                <a:latin typeface="Myriad Pro"/>
              </a:rPr>
              <a:t>EFSA, Parma 10 October 2014</a:t>
            </a:r>
            <a:endParaRPr b="0" lang="en-US" sz="25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TextBox 4"/>
          <p:cNvSpPr/>
          <p:nvPr/>
        </p:nvSpPr>
        <p:spPr>
          <a:xfrm>
            <a:off x="4859280" y="1268280"/>
            <a:ext cx="4033800" cy="40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NEW EFSA 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Protected Crops: </a:t>
            </a:r>
            <a:r>
              <a:rPr b="1" lang="en-GB" sz="2000" spc="-1" strike="noStrike">
                <a:solidFill>
                  <a:srgbClr val="171796"/>
                </a:solidFill>
                <a:latin typeface="Verdana"/>
              </a:rPr>
              <a:t>Published 20 March 2014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Verdana"/>
              </a:rPr>
              <a:t>Estimation of soil DegT</a:t>
            </a:r>
            <a:r>
              <a:rPr b="1" lang="en-GB" sz="1400" spc="-1" strike="noStrike">
                <a:solidFill>
                  <a:srgbClr val="171796"/>
                </a:solidFill>
                <a:latin typeface="Verdana"/>
              </a:rPr>
              <a:t>50</a:t>
            </a:r>
            <a:r>
              <a:rPr b="1" lang="en-GB" sz="2000" spc="-1" strike="noStrike">
                <a:solidFill>
                  <a:srgbClr val="171796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Verdana"/>
              </a:rPr>
              <a:t>Published in May 2014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34" name="Rectangle 4"/>
          <p:cNvSpPr/>
          <p:nvPr/>
        </p:nvSpPr>
        <p:spPr>
          <a:xfrm>
            <a:off x="826920" y="429264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EFSA Guidance on Risk assessment of Be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MS Pゴシック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MS Pゴシック"/>
              </a:rPr>
              <a:t>Republished in 2014 (ref date 2013)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MS Pゴシック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  <a:ea typeface="MS Pゴシック"/>
              </a:rPr>
              <a:t>Has been re-structured  and complemented with a “Calculator” for facilitating its us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21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Improving guidance use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“Calculators” and Info Session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pic>
        <p:nvPicPr>
          <p:cNvPr id="1236" name="Picture 8" descr=""/>
          <p:cNvPicPr/>
          <p:nvPr/>
        </p:nvPicPr>
        <p:blipFill>
          <a:blip r:embed="rId1"/>
          <a:stretch/>
        </p:blipFill>
        <p:spPr>
          <a:xfrm>
            <a:off x="0" y="1125360"/>
            <a:ext cx="499104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Stakeholder involvement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38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0E9C-2DC8-4D32-B15A-E4DA1576B2D0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39" name="TextBox 7"/>
          <p:cNvSpPr/>
          <p:nvPr/>
        </p:nvSpPr>
        <p:spPr>
          <a:xfrm>
            <a:off x="4932360" y="1413000"/>
            <a:ext cx="34560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Public consultation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Guidance on exposure for operators, workers, residents and bystander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Until 20 May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40" name="TextBox 8"/>
          <p:cNvSpPr/>
          <p:nvPr/>
        </p:nvSpPr>
        <p:spPr>
          <a:xfrm>
            <a:off x="324000" y="4437000"/>
            <a:ext cx="3960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Info Session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Guidance on protected crops and soil degradation rate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17-18 June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71796"/>
                </a:solidFill>
                <a:latin typeface="Verdana"/>
              </a:rPr>
              <a:t>Registration until 30 April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41" name="Picture 2" descr="https://dam.efsa.europa.eu/mediabin/PreviewImage.asp?type=4&amp;repoid=%7bA8594A13-106E-479C-A080-3BA76EE9FFE8%7d&amp;version=8&amp;validate=NLFPLGNSKJ&amp;md=2-25-201111-18-06AM"/>
          <p:cNvPicPr/>
          <p:nvPr/>
        </p:nvPicPr>
        <p:blipFill>
          <a:blip r:embed="rId1"/>
          <a:stretch/>
        </p:blipFill>
        <p:spPr>
          <a:xfrm>
            <a:off x="6875640" y="2781360"/>
            <a:ext cx="1626840" cy="107928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4" descr="https://dam.efsa.europa.eu/mediabin/PreviewImage.asp?type=4&amp;repoid=%7bAB033EB3-5803-4C47-B6B7-7B294F55EC65%7d&amp;version=3&amp;validate=NLFPLGNSKJ&amp;md=4-20-20092-58-57PM"/>
          <p:cNvPicPr/>
          <p:nvPr/>
        </p:nvPicPr>
        <p:blipFill>
          <a:blip r:embed="rId2"/>
          <a:stretch/>
        </p:blipFill>
        <p:spPr>
          <a:xfrm>
            <a:off x="3564000" y="5445000"/>
            <a:ext cx="1452600" cy="936720"/>
          </a:xfrm>
          <a:prstGeom prst="rect">
            <a:avLst/>
          </a:prstGeom>
          <a:ln w="0">
            <a:noFill/>
          </a:ln>
        </p:spPr>
      </p:pic>
      <p:pic>
        <p:nvPicPr>
          <p:cNvPr id="1243" name="Picture 10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798192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  <a:ea typeface="MS Pゴシック"/>
              </a:rPr>
              <a:t>Pesticides Unit. Regular activitie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45" name="Straight Arrow Connector 13"/>
          <p:cNvCxnSpPr/>
          <p:nvPr/>
        </p:nvCxnSpPr>
        <p:spPr>
          <a:xfrm flipV="1">
            <a:off x="3851280" y="2348640"/>
            <a:ext cx="721440" cy="104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246" name="TextBox 12"/>
          <p:cNvSpPr/>
          <p:nvPr/>
        </p:nvSpPr>
        <p:spPr>
          <a:xfrm>
            <a:off x="468360" y="566100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Maximum Residue Levels MRL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47" name="TextBox 17"/>
          <p:cNvSpPr/>
          <p:nvPr/>
        </p:nvSpPr>
        <p:spPr>
          <a:xfrm>
            <a:off x="4643280" y="5589720"/>
            <a:ext cx="3600720" cy="76716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Reasoned 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Annual report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48" name="Straight Arrow Connector 18"/>
          <p:cNvCxnSpPr>
            <a:stCxn id="1246" idx="3"/>
            <a:endCxn id="1247" idx="1"/>
          </p:cNvCxnSpPr>
          <p:nvPr/>
        </p:nvCxnSpPr>
        <p:spPr>
          <a:xfrm flipV="1">
            <a:off x="3851280" y="5973120"/>
            <a:ext cx="792720" cy="1188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249" name="TextBox 19"/>
          <p:cNvSpPr/>
          <p:nvPr/>
        </p:nvSpPr>
        <p:spPr>
          <a:xfrm>
            <a:off x="468360" y="1700280"/>
            <a:ext cx="3382920" cy="119124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6a6a6"/>
                </a:solidFill>
                <a:latin typeface="Arial"/>
                <a:ea typeface="Arial"/>
              </a:rPr>
              <a:t>Supports the Scientific Panel for pesticides PPR (Plant Protection Product and their Residues).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0" name="TextBox 20"/>
          <p:cNvSpPr/>
          <p:nvPr/>
        </p:nvSpPr>
        <p:spPr>
          <a:xfrm>
            <a:off x="4572000" y="1773360"/>
            <a:ext cx="3600360" cy="11354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Guidance document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Ad-hoc mandate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1" name="TextBox 22"/>
          <p:cNvSpPr/>
          <p:nvPr/>
        </p:nvSpPr>
        <p:spPr>
          <a:xfrm>
            <a:off x="395280" y="386064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Coordinates the Peer Review of active substance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2" name="TextBox 23"/>
          <p:cNvSpPr/>
          <p:nvPr/>
        </p:nvSpPr>
        <p:spPr>
          <a:xfrm>
            <a:off x="4572000" y="3500280"/>
            <a:ext cx="3600360" cy="13136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Provides </a:t>
            </a: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Conclusions</a:t>
            </a: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 for single active substances to support the EU decision-maker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53" name="Straight Arrow Connector 24"/>
          <p:cNvCxnSpPr>
            <a:stCxn id="1251" idx="3"/>
            <a:endCxn id="1252" idx="1"/>
          </p:cNvCxnSpPr>
          <p:nvPr/>
        </p:nvCxnSpPr>
        <p:spPr>
          <a:xfrm flipV="1">
            <a:off x="3777840" y="4161960"/>
            <a:ext cx="794520" cy="230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Picture 3" descr="European Dossier41"/>
          <p:cNvPicPr/>
          <p:nvPr/>
        </p:nvPicPr>
        <p:blipFill>
          <a:blip r:embed="rId1"/>
          <a:stretch/>
        </p:blipFill>
        <p:spPr>
          <a:xfrm>
            <a:off x="233280" y="2111400"/>
            <a:ext cx="1300320" cy="812880"/>
          </a:xfrm>
          <a:prstGeom prst="rect">
            <a:avLst/>
          </a:prstGeom>
          <a:ln w="9360">
            <a:solidFill>
              <a:srgbClr val="171796"/>
            </a:solidFill>
            <a:miter/>
          </a:ln>
        </p:spPr>
      </p:pic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6000" y="115920"/>
            <a:ext cx="79203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</a:rPr>
              <a:t>Peer review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Myriad Pro"/>
              </a:rPr>
              <a:t>(legal framework Reg. (EC) No 1107/2009)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Myriad Pro"/>
            </a:endParaRPr>
          </a:p>
        </p:txBody>
      </p:sp>
      <p:pic>
        <p:nvPicPr>
          <p:cNvPr id="1256" name="Immagine 3" descr="eu stati membri.png"/>
          <p:cNvPicPr/>
          <p:nvPr/>
        </p:nvPicPr>
        <p:blipFill>
          <a:blip r:embed="rId2"/>
          <a:srcRect l="2052" t="1326" r="2052" b="11559"/>
          <a:stretch/>
        </p:blipFill>
        <p:spPr>
          <a:xfrm>
            <a:off x="235080" y="3143160"/>
            <a:ext cx="1296720" cy="1160640"/>
          </a:xfrm>
          <a:prstGeom prst="rect">
            <a:avLst/>
          </a:prstGeom>
          <a:ln w="0">
            <a:noFill/>
          </a:ln>
        </p:spPr>
      </p:pic>
      <p:sp>
        <p:nvSpPr>
          <p:cNvPr id="1257" name="CasellaDiTesto 4"/>
          <p:cNvSpPr/>
          <p:nvPr/>
        </p:nvSpPr>
        <p:spPr>
          <a:xfrm>
            <a:off x="179280" y="1197000"/>
            <a:ext cx="1368360" cy="642600"/>
          </a:xfrm>
          <a:prstGeom prst="rect">
            <a:avLst/>
          </a:prstGeom>
          <a:noFill/>
          <a:ln w="9360">
            <a:solidFill>
              <a:srgbClr val="111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1796"/>
                </a:solidFill>
                <a:latin typeface="Arial"/>
              </a:rPr>
              <a:t>Dossier submission 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8" name="CasellaDiTesto 5"/>
          <p:cNvSpPr/>
          <p:nvPr/>
        </p:nvSpPr>
        <p:spPr>
          <a:xfrm>
            <a:off x="1714680" y="5369040"/>
            <a:ext cx="1056960" cy="368280"/>
          </a:xfrm>
          <a:prstGeom prst="rect">
            <a:avLst/>
          </a:prstGeom>
          <a:noFill/>
          <a:ln w="9360">
            <a:solidFill>
              <a:srgbClr val="111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1796"/>
                </a:solidFill>
                <a:latin typeface="Arial"/>
              </a:rPr>
              <a:t>EFSA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59" name="CasellaDiTesto 6"/>
          <p:cNvSpPr/>
          <p:nvPr/>
        </p:nvSpPr>
        <p:spPr>
          <a:xfrm>
            <a:off x="3147840" y="2116080"/>
            <a:ext cx="2000520" cy="1859400"/>
          </a:xfrm>
          <a:prstGeom prst="rect">
            <a:avLst/>
          </a:prstGeom>
          <a:noFill/>
          <a:ln w="9360">
            <a:solidFill>
              <a:srgbClr val="111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71796"/>
                </a:solidFill>
                <a:latin typeface="Arial"/>
              </a:rPr>
              <a:t>PEER REVIEW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71796"/>
                </a:solidFill>
                <a:latin typeface="Arial"/>
              </a:rPr>
              <a:t>EFSA, RapporteurMS, other MSs,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71796"/>
                </a:solidFill>
                <a:latin typeface="Arial"/>
              </a:rPr>
              <a:t>EU Commission, Notifier, Public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</p:txBody>
      </p:sp>
      <p:grpSp>
        <p:nvGrpSpPr>
          <p:cNvPr id="1260" name="Group 31"/>
          <p:cNvGrpSpPr/>
          <p:nvPr/>
        </p:nvGrpSpPr>
        <p:grpSpPr>
          <a:xfrm>
            <a:off x="5686560" y="1531800"/>
            <a:ext cx="3133440" cy="2554920"/>
            <a:chOff x="5686560" y="1531800"/>
            <a:chExt cx="3133440" cy="2554920"/>
          </a:xfrm>
        </p:grpSpPr>
        <p:sp>
          <p:nvSpPr>
            <p:cNvPr id="1261" name="CasellaDiTesto 8"/>
            <p:cNvSpPr/>
            <p:nvPr/>
          </p:nvSpPr>
          <p:spPr>
            <a:xfrm>
              <a:off x="5707080" y="1531800"/>
              <a:ext cx="3112920" cy="398880"/>
            </a:xfrm>
            <a:prstGeom prst="rect">
              <a:avLst/>
            </a:prstGeom>
            <a:noFill/>
            <a:ln w="9360">
              <a:solidFill>
                <a:srgbClr val="505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171796"/>
                  </a:solidFill>
                  <a:latin typeface="Arial"/>
                </a:rPr>
                <a:t>1. </a:t>
              </a:r>
              <a:r>
                <a:rPr b="1" lang="it-IT" sz="2000" spc="-1" strike="noStrike">
                  <a:solidFill>
                    <a:srgbClr val="171796"/>
                  </a:solidFill>
                  <a:latin typeface="Arial"/>
                </a:rPr>
                <a:t>Commenting phase</a:t>
              </a:r>
              <a:endParaRPr b="0" lang="en-US" sz="2000" spc="-1" strike="noStrike">
                <a:solidFill>
                  <a:srgbClr val="171796"/>
                </a:solidFill>
                <a:latin typeface="Verdana"/>
              </a:endParaRPr>
            </a:p>
          </p:txBody>
        </p:sp>
        <p:sp>
          <p:nvSpPr>
            <p:cNvPr id="1262" name="CasellaDiTesto 9"/>
            <p:cNvSpPr/>
            <p:nvPr/>
          </p:nvSpPr>
          <p:spPr>
            <a:xfrm>
              <a:off x="5692680" y="2249280"/>
              <a:ext cx="3127320" cy="703800"/>
            </a:xfrm>
            <a:prstGeom prst="rect">
              <a:avLst/>
            </a:prstGeom>
            <a:noFill/>
            <a:ln w="9360">
              <a:solidFill>
                <a:srgbClr val="505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1800" indent="-36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171796"/>
                  </a:solidFill>
                  <a:latin typeface="Arial"/>
                </a:rPr>
                <a:t>2. </a:t>
              </a:r>
              <a:r>
                <a:rPr b="1" lang="it-IT" sz="2000" spc="-1" strike="noStrike">
                  <a:solidFill>
                    <a:srgbClr val="171796"/>
                  </a:solidFill>
                  <a:latin typeface="Arial"/>
                </a:rPr>
                <a:t>Evaluation of comments</a:t>
              </a:r>
              <a:endParaRPr b="0" lang="en-US" sz="2000" spc="-1" strike="noStrike">
                <a:solidFill>
                  <a:srgbClr val="171796"/>
                </a:solidFill>
                <a:latin typeface="Verdana"/>
              </a:endParaRPr>
            </a:p>
          </p:txBody>
        </p:sp>
        <p:sp>
          <p:nvSpPr>
            <p:cNvPr id="1263" name="CasellaDiTesto 10"/>
            <p:cNvSpPr/>
            <p:nvPr/>
          </p:nvSpPr>
          <p:spPr>
            <a:xfrm>
              <a:off x="5686560" y="3111480"/>
              <a:ext cx="3133440" cy="398880"/>
            </a:xfrm>
            <a:prstGeom prst="rect">
              <a:avLst/>
            </a:prstGeom>
            <a:noFill/>
            <a:ln w="9360">
              <a:solidFill>
                <a:srgbClr val="505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171796"/>
                  </a:solidFill>
                  <a:latin typeface="Arial"/>
                </a:rPr>
                <a:t>3. </a:t>
              </a:r>
              <a:r>
                <a:rPr b="1" lang="it-IT" sz="2000" spc="-1" strike="noStrike">
                  <a:solidFill>
                    <a:srgbClr val="171796"/>
                  </a:solidFill>
                  <a:latin typeface="Arial"/>
                </a:rPr>
                <a:t>Expert’s consultation</a:t>
              </a:r>
              <a:endParaRPr b="0" lang="en-US" sz="2000" spc="-1" strike="noStrike">
                <a:solidFill>
                  <a:srgbClr val="171796"/>
                </a:solidFill>
                <a:latin typeface="Verdana"/>
              </a:endParaRPr>
            </a:p>
          </p:txBody>
        </p:sp>
        <p:sp>
          <p:nvSpPr>
            <p:cNvPr id="1264" name="CasellaDiTesto 11"/>
            <p:cNvSpPr/>
            <p:nvPr/>
          </p:nvSpPr>
          <p:spPr>
            <a:xfrm>
              <a:off x="5729400" y="3687840"/>
              <a:ext cx="3090600" cy="398880"/>
            </a:xfrm>
            <a:prstGeom prst="rect">
              <a:avLst/>
            </a:prstGeom>
            <a:noFill/>
            <a:ln w="9360">
              <a:solidFill>
                <a:srgbClr val="505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171796"/>
                  </a:solidFill>
                  <a:latin typeface="Arial"/>
                </a:rPr>
                <a:t>4. </a:t>
              </a:r>
              <a:r>
                <a:rPr b="1" lang="it-IT" sz="2000" spc="-1" strike="noStrike">
                  <a:solidFill>
                    <a:srgbClr val="171796"/>
                  </a:solidFill>
                  <a:latin typeface="Arial"/>
                </a:rPr>
                <a:t>Conclusion</a:t>
              </a:r>
              <a:endParaRPr b="0" lang="en-US" sz="2000" spc="-1" strike="noStrike">
                <a:solidFill>
                  <a:srgbClr val="171796"/>
                </a:solidFill>
                <a:latin typeface="Verdana"/>
              </a:endParaRPr>
            </a:p>
          </p:txBody>
        </p:sp>
      </p:grpSp>
      <p:pic>
        <p:nvPicPr>
          <p:cNvPr id="1265" name="Picture 12" descr=""/>
          <p:cNvPicPr/>
          <p:nvPr/>
        </p:nvPicPr>
        <p:blipFill>
          <a:blip r:embed="rId3"/>
          <a:stretch/>
        </p:blipFill>
        <p:spPr>
          <a:xfrm>
            <a:off x="210960" y="4653000"/>
            <a:ext cx="1343160" cy="1893960"/>
          </a:xfrm>
          <a:prstGeom prst="rect">
            <a:avLst/>
          </a:prstGeom>
          <a:ln w="9360">
            <a:solidFill>
              <a:srgbClr val="5050e4"/>
            </a:solidFill>
            <a:miter/>
          </a:ln>
        </p:spPr>
      </p:pic>
      <p:cxnSp>
        <p:nvCxnSpPr>
          <p:cNvPr id="1266" name="Straight Arrow Connector 14"/>
          <p:cNvCxnSpPr/>
          <p:nvPr/>
        </p:nvCxnSpPr>
        <p:spPr>
          <a:xfrm flipH="1">
            <a:off x="882000" y="2923920"/>
            <a:ext cx="1080" cy="291240"/>
          </a:xfrm>
          <a:prstGeom prst="straightConnector1">
            <a:avLst/>
          </a:prstGeom>
          <a:ln w="31680">
            <a:solidFill>
              <a:srgbClr val="171796"/>
            </a:solidFill>
            <a:miter/>
            <a:tailEnd len="med" type="triangle" w="med"/>
          </a:ln>
        </p:spPr>
      </p:cxnSp>
      <p:cxnSp>
        <p:nvCxnSpPr>
          <p:cNvPr id="1267" name="Straight Arrow Connector 17"/>
          <p:cNvCxnSpPr/>
          <p:nvPr/>
        </p:nvCxnSpPr>
        <p:spPr>
          <a:xfrm flipH="1">
            <a:off x="882360" y="4303800"/>
            <a:ext cx="2160" cy="351360"/>
          </a:xfrm>
          <a:prstGeom prst="straightConnector1">
            <a:avLst/>
          </a:prstGeom>
          <a:ln w="31680">
            <a:solidFill>
              <a:srgbClr val="171796"/>
            </a:solidFill>
            <a:miter/>
            <a:tailEnd len="med" type="arrow" w="med"/>
          </a:ln>
        </p:spPr>
      </p:cxnSp>
      <p:sp>
        <p:nvSpPr>
          <p:cNvPr id="1268" name="CasellaDiTesto 4"/>
          <p:cNvSpPr/>
          <p:nvPr/>
        </p:nvSpPr>
        <p:spPr>
          <a:xfrm>
            <a:off x="395280" y="5661000"/>
            <a:ext cx="97488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DAR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171796"/>
                </a:solidFill>
                <a:latin typeface="Arial"/>
                <a:ea typeface="MS Pゴシック"/>
              </a:rPr>
              <a:t>Draft</a:t>
            </a:r>
            <a:endParaRPr b="0" lang="en-US" sz="10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171796"/>
                </a:solidFill>
                <a:latin typeface="Arial"/>
                <a:ea typeface="MS Pゴシック"/>
              </a:rPr>
              <a:t>Assessment Report</a:t>
            </a:r>
            <a:endParaRPr b="0" lang="en-US" sz="1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69" name="Straight Arrow Connector 20"/>
          <p:cNvCxnSpPr>
            <a:endCxn id="1258" idx="1"/>
          </p:cNvCxnSpPr>
          <p:nvPr/>
        </p:nvCxnSpPr>
        <p:spPr>
          <a:xfrm>
            <a:off x="1554120" y="5600520"/>
            <a:ext cx="161280" cy="1080"/>
          </a:xfrm>
          <a:prstGeom prst="straightConnector1">
            <a:avLst/>
          </a:prstGeom>
          <a:ln w="31680">
            <a:solidFill>
              <a:srgbClr val="171796"/>
            </a:solidFill>
            <a:miter/>
            <a:tailEnd len="med" type="arrow" w="med"/>
          </a:ln>
        </p:spPr>
      </p:cxnSp>
      <p:cxnSp>
        <p:nvCxnSpPr>
          <p:cNvPr id="1270" name="Elbow Connector 23"/>
          <p:cNvCxnSpPr>
            <a:stCxn id="1258" idx="3"/>
            <a:endCxn id="1259" idx="1"/>
          </p:cNvCxnSpPr>
          <p:nvPr/>
        </p:nvCxnSpPr>
        <p:spPr>
          <a:xfrm flipV="1">
            <a:off x="2771280" y="3053880"/>
            <a:ext cx="376920" cy="2547360"/>
          </a:xfrm>
          <a:prstGeom prst="bentConnector3">
            <a:avLst>
              <a:gd name="adj1" fmla="val 50000"/>
            </a:avLst>
          </a:prstGeom>
          <a:ln w="31680">
            <a:solidFill>
              <a:srgbClr val="171796"/>
            </a:solidFill>
            <a:round/>
            <a:tailEnd len="med" type="arrow" w="med"/>
          </a:ln>
        </p:spPr>
      </p:cxnSp>
      <p:sp>
        <p:nvSpPr>
          <p:cNvPr id="1271" name="Left Brace 25"/>
          <p:cNvSpPr/>
          <p:nvPr/>
        </p:nvSpPr>
        <p:spPr>
          <a:xfrm>
            <a:off x="5219640" y="1531800"/>
            <a:ext cx="360360" cy="25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2592360"/>
              <a:gd name="textAreaBottom" fmla="*/ 258300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50"/>
                </a:cubicBezTo>
                <a:lnTo>
                  <a:pt x="10800" y="9154"/>
                </a:lnTo>
                <a:cubicBezTo>
                  <a:pt x="10800" y="9279"/>
                  <a:pt x="5400" y="9404"/>
                  <a:pt x="0" y="9404"/>
                </a:cubicBezTo>
                <a:cubicBezTo>
                  <a:pt x="5400" y="9404"/>
                  <a:pt x="10800" y="9529"/>
                  <a:pt x="10800" y="9654"/>
                </a:cubicBezTo>
                <a:lnTo>
                  <a:pt x="10800" y="21350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72" name="TextBox 26"/>
          <p:cNvSpPr/>
          <p:nvPr/>
        </p:nvSpPr>
        <p:spPr>
          <a:xfrm>
            <a:off x="5076720" y="4653000"/>
            <a:ext cx="3743280" cy="12830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anding Committee on the Food Chain and Animal Health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SCoFCAH = EC +MSs)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73" name="Shape 28"/>
          <p:cNvCxnSpPr>
            <a:stCxn id="1264" idx="3"/>
            <a:endCxn id="1272" idx="3"/>
          </p:cNvCxnSpPr>
          <p:nvPr/>
        </p:nvCxnSpPr>
        <p:spPr>
          <a:xfrm>
            <a:off x="8819640" y="3917520"/>
            <a:ext cx="2520" cy="1428120"/>
          </a:xfrm>
          <a:prstGeom prst="bentConnector3">
            <a:avLst>
              <a:gd name="adj1" fmla="val 14383333"/>
            </a:avLst>
          </a:prstGeom>
          <a:ln w="31680">
            <a:solidFill>
              <a:srgbClr val="171796"/>
            </a:solidFill>
            <a:round/>
            <a:tailEnd len="med" type="arrow" w="med"/>
          </a:ln>
        </p:spPr>
      </p:cxnSp>
      <p:sp>
        <p:nvSpPr>
          <p:cNvPr id="1274" name="TextBox 66"/>
          <p:cNvSpPr/>
          <p:nvPr/>
        </p:nvSpPr>
        <p:spPr>
          <a:xfrm>
            <a:off x="5076720" y="6165720"/>
            <a:ext cx="3743280" cy="368280"/>
          </a:xfrm>
          <a:prstGeom prst="rect">
            <a:avLst/>
          </a:prstGeom>
          <a:solidFill>
            <a:srgbClr val="111171"/>
          </a:solidFill>
          <a:ln w="9360">
            <a:solidFill>
              <a:srgbClr val="111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proval/Non Approval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Dossier content </a:t>
            </a:r>
            <a:r>
              <a:rPr b="1" lang="it-IT" sz="3200" spc="-1" strike="noStrike">
                <a:solidFill>
                  <a:srgbClr val="ffffff"/>
                </a:solidFill>
                <a:latin typeface="Myriad Pro"/>
              </a:rPr>
              <a:t>(Reg.1107/2009)</a:t>
            </a:r>
            <a:endParaRPr b="0" lang="en-US" sz="32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46836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Summary dossier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omplete dossier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with full text of individual tests and study reports (studies involving deliberate administration to humans are not accepted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In line with the data requirement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Scientific peer-reviewed open literature over the last 10 years (active substance &amp; metabolites)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	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3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77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9C53-75DC-4A94-B959-DEF8611A74BA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4995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Summary Dossier </a:t>
            </a:r>
            <a:r>
              <a:rPr b="1" lang="it-IT" sz="3200" spc="-1" strike="noStrike">
                <a:solidFill>
                  <a:srgbClr val="ffffff"/>
                </a:solidFill>
                <a:latin typeface="Myriad Pro"/>
              </a:rPr>
              <a:t>(Reg.1107/2009)</a:t>
            </a:r>
            <a:endParaRPr b="0" lang="en-US" sz="32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539640" y="11970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Representative uses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Summaries and results of tests and studies for each data requirement 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Vertebrate studies: justification on steps for avoiding animal testing and duplication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hecklist demonstrating completenes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When relevant copy of an Maximum Residue Levels (MRL) application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ssessment of the information submitted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  <a:p>
            <a:pPr lvl="1" indent="370080">
              <a:spcBef>
                <a:spcPts val="3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80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FD08-C743-4A3B-9D93-710D371CF20F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1" name="Picture 19" descr=""/>
          <p:cNvPicPr/>
          <p:nvPr/>
        </p:nvPicPr>
        <p:blipFill>
          <a:blip r:embed="rId1"/>
          <a:stretch/>
        </p:blipFill>
        <p:spPr>
          <a:xfrm>
            <a:off x="114480" y="1197000"/>
            <a:ext cx="9029520" cy="5249880"/>
          </a:xfrm>
          <a:prstGeom prst="rect">
            <a:avLst/>
          </a:prstGeom>
          <a:ln w="0">
            <a:noFill/>
          </a:ln>
        </p:spPr>
      </p:pic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4995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Summary  Study repor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83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6891-3424-4115-A45E-0EFDCC8A7E31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4" name="TextBox 18"/>
          <p:cNvSpPr/>
          <p:nvPr/>
        </p:nvSpPr>
        <p:spPr>
          <a:xfrm>
            <a:off x="539640" y="1484280"/>
            <a:ext cx="1944720" cy="366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MATERIALS &amp; METHOD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with detailed descriptions of experimental conditions, compliance with test guidelines, deviations and justification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5" name="TextBox 19"/>
          <p:cNvSpPr/>
          <p:nvPr/>
        </p:nvSpPr>
        <p:spPr>
          <a:xfrm>
            <a:off x="2627280" y="2924280"/>
            <a:ext cx="194472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with detailed descriptions of the relevant experimental result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6" name="TextBox 20"/>
          <p:cNvSpPr/>
          <p:nvPr/>
        </p:nvSpPr>
        <p:spPr>
          <a:xfrm>
            <a:off x="5724360" y="1268280"/>
            <a:ext cx="2303640" cy="256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TABULATED SUPPORTING INFORMATION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demonstrating compliance with test guidelines, deviations and justification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7" name="TextBox 21"/>
          <p:cNvSpPr/>
          <p:nvPr/>
        </p:nvSpPr>
        <p:spPr>
          <a:xfrm>
            <a:off x="5580000" y="3933720"/>
            <a:ext cx="302436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TABULATED KEY RESULT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with detailed description allowing verification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88" name="TextBox 22"/>
          <p:cNvSpPr/>
          <p:nvPr/>
        </p:nvSpPr>
        <p:spPr>
          <a:xfrm>
            <a:off x="5940360" y="5877000"/>
            <a:ext cx="2303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9" name="Picture 19" descr=""/>
          <p:cNvPicPr/>
          <p:nvPr/>
        </p:nvPicPr>
        <p:blipFill>
          <a:blip r:embed="rId1">
            <a:alphaModFix amt="56000"/>
          </a:blip>
          <a:stretch/>
        </p:blipFill>
        <p:spPr>
          <a:xfrm>
            <a:off x="114480" y="1197000"/>
            <a:ext cx="9029520" cy="524988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Draft Assessment Report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468360" y="1483920"/>
            <a:ext cx="8229600" cy="4537080"/>
          </a:xfrm>
          <a:prstGeom prst="rect">
            <a:avLst/>
          </a:prstGeom>
          <a:solidFill>
            <a:srgbClr val="ccffff">
              <a:alpha val="64000"/>
            </a:srgbClr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Presents the risk assessment outcome from the rapporteur Member State (RMS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Includes the summary study reports for each relevant study commented by the RM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Describes the risk assessment output and RMS comments for each endpoint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Is published by EFSA for comment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1800"/>
              </a:spcBef>
              <a:buClr>
                <a:srgbClr val="1717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Is updated with new information if relevan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Myriad Pro"/>
              </a:rPr>
              <a:t>	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300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92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7ED9-D430-436F-9B3E-C83914CC561A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Myriad Pro"/>
              </a:rPr>
              <a:t>EFSA Conclusion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468000" y="1125360"/>
            <a:ext cx="58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Output of a scientific peer review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Identity and Phys/Chem properti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Mammalian Toxicology &amp; Workers/bystander/residents risk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esidues &amp; Consumer risk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Environmental Fate and Behaviour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572040" indent="-21996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Ecotoxicology &amp; Ecosystem risk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63880" indent="-2638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onducted by EFSA scientific staff and risk assessment experts from the Member State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63880" indent="-26388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The PPR Panel is not involved, except occasionally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  <p:pic>
        <p:nvPicPr>
          <p:cNvPr id="1295" name="Picture 2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1247760" cy="1727280"/>
          </a:xfrm>
          <a:prstGeom prst="rect">
            <a:avLst/>
          </a:prstGeom>
          <a:ln w="9360">
            <a:solidFill>
              <a:srgbClr val="0a0a43"/>
            </a:solidFill>
            <a:miter/>
          </a:ln>
        </p:spPr>
      </p:pic>
      <p:pic>
        <p:nvPicPr>
          <p:cNvPr id="1296" name="Picture 3" descr=""/>
          <p:cNvPicPr/>
          <p:nvPr/>
        </p:nvPicPr>
        <p:blipFill>
          <a:blip r:embed="rId2"/>
          <a:stretch/>
        </p:blipFill>
        <p:spPr>
          <a:xfrm>
            <a:off x="7596360" y="4365720"/>
            <a:ext cx="1207800" cy="1727280"/>
          </a:xfrm>
          <a:prstGeom prst="rect">
            <a:avLst/>
          </a:prstGeom>
          <a:ln w="9360">
            <a:solidFill>
              <a:srgbClr val="0a0a43"/>
            </a:solidFill>
            <a:miter/>
          </a:ln>
        </p:spPr>
      </p:pic>
      <p:pic>
        <p:nvPicPr>
          <p:cNvPr id="1297" name="Picture 4" descr=""/>
          <p:cNvPicPr/>
          <p:nvPr/>
        </p:nvPicPr>
        <p:blipFill>
          <a:blip r:embed="rId3"/>
          <a:stretch/>
        </p:blipFill>
        <p:spPr>
          <a:xfrm>
            <a:off x="6516720" y="1484280"/>
            <a:ext cx="2016000" cy="2825640"/>
          </a:xfrm>
          <a:prstGeom prst="rect">
            <a:avLst/>
          </a:prstGeom>
          <a:ln w="9360">
            <a:solidFill>
              <a:srgbClr val="0a0a4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EFSA conclusions overview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94 conclusions published since 1 January 2013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New active substances Reg. 188/2011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Confirmatory data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rt 21 and amendments of approval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New elements for 2014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First conclusions on AIR II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First conclusions on new actives Reg. 1107/2009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00" name="Slide Number Placeholder 4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D1DE-FA04-4A7D-BBF7-E12C51C20C34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  <a:ea typeface="MS Pゴシック"/>
              </a:rPr>
              <a:t>Pesticides Unit. Regular activitie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188" name="Straight Arrow Connector 13"/>
          <p:cNvCxnSpPr/>
          <p:nvPr/>
        </p:nvCxnSpPr>
        <p:spPr>
          <a:xfrm flipV="1">
            <a:off x="3851280" y="2348640"/>
            <a:ext cx="721440" cy="104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189" name="TextBox 12"/>
          <p:cNvSpPr/>
          <p:nvPr/>
        </p:nvSpPr>
        <p:spPr>
          <a:xfrm>
            <a:off x="468360" y="566100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Maximum Residue Levels MRL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90" name="TextBox 17"/>
          <p:cNvSpPr/>
          <p:nvPr/>
        </p:nvSpPr>
        <p:spPr>
          <a:xfrm>
            <a:off x="4643280" y="5589720"/>
            <a:ext cx="3600720" cy="76716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Reasoned 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Annual report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191" name="Straight Arrow Connector 18"/>
          <p:cNvCxnSpPr>
            <a:stCxn id="1189" idx="3"/>
            <a:endCxn id="1190" idx="1"/>
          </p:cNvCxnSpPr>
          <p:nvPr/>
        </p:nvCxnSpPr>
        <p:spPr>
          <a:xfrm flipV="1">
            <a:off x="3851280" y="5973120"/>
            <a:ext cx="792720" cy="1188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  <p:sp>
        <p:nvSpPr>
          <p:cNvPr id="1192" name="TextBox 19"/>
          <p:cNvSpPr/>
          <p:nvPr/>
        </p:nvSpPr>
        <p:spPr>
          <a:xfrm>
            <a:off x="468360" y="1700280"/>
            <a:ext cx="3382920" cy="119124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Supports the Scientific Panel for pesticides PPR (Plant Protection Product and their Residues).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93" name="TextBox 20"/>
          <p:cNvSpPr/>
          <p:nvPr/>
        </p:nvSpPr>
        <p:spPr>
          <a:xfrm>
            <a:off x="4572000" y="1773360"/>
            <a:ext cx="3600360" cy="11354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Guidance document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Ad-hoc mandate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94" name="TextBox 22"/>
          <p:cNvSpPr/>
          <p:nvPr/>
        </p:nvSpPr>
        <p:spPr>
          <a:xfrm>
            <a:off x="395280" y="386064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Coordinates the Peer Review of active substance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195" name="TextBox 23"/>
          <p:cNvSpPr/>
          <p:nvPr/>
        </p:nvSpPr>
        <p:spPr>
          <a:xfrm>
            <a:off x="4572000" y="3500280"/>
            <a:ext cx="3600360" cy="13136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Provides </a:t>
            </a: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Conclusions</a:t>
            </a: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 for single active substances to support the EU decision-maker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196" name="Straight Arrow Connector 24"/>
          <p:cNvCxnSpPr>
            <a:stCxn id="1194" idx="3"/>
            <a:endCxn id="1195" idx="1"/>
          </p:cNvCxnSpPr>
          <p:nvPr/>
        </p:nvCxnSpPr>
        <p:spPr>
          <a:xfrm flipV="1">
            <a:off x="3777840" y="4161960"/>
            <a:ext cx="794520" cy="230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Recent and ongoing activitie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46836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71796"/>
                </a:solidFill>
                <a:latin typeface="Myriad Pro"/>
              </a:rPr>
              <a:t>Selected examples:</a:t>
            </a:r>
            <a:endParaRPr b="0" lang="en-US" sz="36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General issue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ssessment of Endocrine Disruptor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Specific mandate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isk of neonicotinoids and fipronil to be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evised assessment of chlorpyrifo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Microbial active substanc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03" name="Slide Number Placeholder 4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9B4F-2701-4CF6-A2AC-A5C036C1EEFD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Endocrine effect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53964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Based on the opinion of EFSA Scientific Committee opinion published in 2013, the assessment will focus on: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94840" indent="-29484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The four axes with available tests: oestrogen, androgen, thyroid or steroidogenesis (EATS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94840" indent="-29484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94840" indent="-29484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The identification of additional concerns from relevant apical studies, information from the literature search, or other information source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06" name="Slide Number Placeholder 4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22C8-BB69-4175-AFB6-CC650D856582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EE6D-D754-4424-B8A4-793EE3663B6A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08" name="Picture 4" descr=""/>
          <p:cNvPicPr/>
          <p:nvPr/>
        </p:nvPicPr>
        <p:blipFill>
          <a:blip r:embed="rId1"/>
          <a:stretch/>
        </p:blipFill>
        <p:spPr>
          <a:xfrm>
            <a:off x="179280" y="1285920"/>
            <a:ext cx="8734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Myriad Pro"/>
              </a:rPr>
              <a:t>EFSA Conclusions risk for Bees </a:t>
            </a:r>
            <a:r>
              <a:rPr b="0" lang="fr-FR" sz="2800" spc="-1" strike="noStrike">
                <a:solidFill>
                  <a:srgbClr val="ffffff"/>
                </a:solidFill>
                <a:latin typeface="Myriad Pro"/>
              </a:rPr>
              <a:t>(seed treatments, soil applications)</a:t>
            </a:r>
            <a:endParaRPr b="0" lang="en-US" sz="28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10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661E-161C-42AE-97B8-49A50E507588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11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590560" cy="3706920"/>
          </a:xfrm>
          <a:prstGeom prst="rect">
            <a:avLst/>
          </a:prstGeom>
          <a:ln w="9360">
            <a:solidFill>
              <a:srgbClr val="141487"/>
            </a:solidFill>
            <a:miter/>
          </a:ln>
        </p:spPr>
      </p:pic>
      <p:pic>
        <p:nvPicPr>
          <p:cNvPr id="1312" name="Picture 4" descr=""/>
          <p:cNvPicPr/>
          <p:nvPr/>
        </p:nvPicPr>
        <p:blipFill>
          <a:blip r:embed="rId2"/>
          <a:stretch/>
        </p:blipFill>
        <p:spPr>
          <a:xfrm>
            <a:off x="1547640" y="1628640"/>
            <a:ext cx="2610000" cy="3673440"/>
          </a:xfrm>
          <a:prstGeom prst="rect">
            <a:avLst/>
          </a:prstGeom>
          <a:ln w="9360">
            <a:solidFill>
              <a:srgbClr val="141487"/>
            </a:solidFill>
            <a:miter/>
          </a:ln>
        </p:spPr>
      </p:pic>
      <p:pic>
        <p:nvPicPr>
          <p:cNvPr id="1313" name="Picture 5" descr=""/>
          <p:cNvPicPr/>
          <p:nvPr/>
        </p:nvPicPr>
        <p:blipFill>
          <a:blip r:embed="rId3"/>
          <a:stretch/>
        </p:blipFill>
        <p:spPr>
          <a:xfrm>
            <a:off x="2556000" y="1773360"/>
            <a:ext cx="2566800" cy="3646440"/>
          </a:xfrm>
          <a:prstGeom prst="rect">
            <a:avLst/>
          </a:prstGeom>
          <a:ln w="9360">
            <a:solidFill>
              <a:srgbClr val="141487"/>
            </a:solidFill>
            <a:miter/>
          </a:ln>
        </p:spPr>
      </p:pic>
      <p:sp>
        <p:nvSpPr>
          <p:cNvPr id="1314" name="TextBox 10"/>
          <p:cNvSpPr/>
          <p:nvPr/>
        </p:nvSpPr>
        <p:spPr>
          <a:xfrm>
            <a:off x="324000" y="5732640"/>
            <a:ext cx="62989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Neonicotinoids:</a:t>
            </a: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 Published 16 January 2013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Fipronil</a:t>
            </a: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: Published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27 May 2013 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15" name="Picture 5" descr=""/>
          <p:cNvPicPr/>
          <p:nvPr/>
        </p:nvPicPr>
        <p:blipFill>
          <a:blip r:embed="rId4"/>
          <a:stretch/>
        </p:blipFill>
        <p:spPr>
          <a:xfrm>
            <a:off x="4356000" y="1989000"/>
            <a:ext cx="2567160" cy="3646800"/>
          </a:xfrm>
          <a:prstGeom prst="rect">
            <a:avLst/>
          </a:prstGeom>
          <a:ln w="9360">
            <a:solidFill>
              <a:srgbClr val="14148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72122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Myriad Pro"/>
              </a:rPr>
              <a:t>Result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17" name="Slide Number Placeholder 3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573E-FCEA-4474-9B5C-C7AED27D9866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graphicFrame>
        <p:nvGraphicFramePr>
          <p:cNvPr id="1318" name=""/>
          <p:cNvGraphicFramePr/>
          <p:nvPr/>
        </p:nvGraphicFramePr>
        <p:xfrm>
          <a:off x="179280" y="1628640"/>
          <a:ext cx="6264360" cy="5094360"/>
        </p:xfrm>
        <a:graphic>
          <a:graphicData uri="http://schemas.openxmlformats.org/drawingml/2006/table">
            <a:tbl>
              <a:tblPr/>
              <a:tblGrid>
                <a:gridCol w="1728720"/>
                <a:gridCol w="1403640"/>
                <a:gridCol w="1566720"/>
                <a:gridCol w="1565280"/>
              </a:tblGrid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70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Myriad Pro"/>
                        </a:rPr>
                        <a:t>DUST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70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Myriad Pro"/>
                        </a:rPr>
                        <a:t>Pollen and Necta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70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Myriad Pro"/>
                        </a:rPr>
                        <a:t>Guttation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700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71796"/>
                          </a:solidFill>
                          <a:latin typeface="Myriad Pro"/>
                        </a:rPr>
                        <a:t>Clothianidin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ereals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71796"/>
                          </a:solidFill>
                          <a:latin typeface="Myriad Pro"/>
                        </a:rPr>
                        <a:t>Imidaclopri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ereals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otton 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otton 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Sunflower 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71796"/>
                          </a:solidFill>
                          <a:latin typeface="Myriad Pro"/>
                        </a:rPr>
                        <a:t>Thiamethoxam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ereals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OSR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Cotton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d5cc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171796"/>
                          </a:solidFill>
                          <a:latin typeface="Myriad Pro"/>
                        </a:rPr>
                        <a:t>Fipronil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11171"/>
                          </a:solidFill>
                          <a:latin typeface="Myriad Pro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7f7f7f"/>
                          </a:solidFill>
                          <a:latin typeface="Myriad Pro"/>
                        </a:rPr>
                        <a:t>Not finalised</a:t>
                      </a:r>
                      <a:endParaRPr b="0" lang="en-US" sz="1800" spc="-1" strike="noStrike">
                        <a:solidFill>
                          <a:srgbClr val="17179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be7"/>
                    </a:solidFill>
                  </a:tcPr>
                </a:tc>
              </a:tr>
            </a:tbl>
          </a:graphicData>
        </a:graphic>
      </p:graphicFrame>
      <p:sp>
        <p:nvSpPr>
          <p:cNvPr id="1319" name="Rectangle 4"/>
          <p:cNvSpPr/>
          <p:nvPr/>
        </p:nvSpPr>
        <p:spPr>
          <a:xfrm>
            <a:off x="6588000" y="2492280"/>
            <a:ext cx="216072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9a9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For many of the </a:t>
            </a: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authorised uses</a:t>
            </a: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 and </a:t>
            </a: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several aspects of the risk assessments </a:t>
            </a:r>
            <a:r>
              <a:rPr b="0" lang="en-GB" sz="2000" spc="-1" strike="noStrike">
                <a:solidFill>
                  <a:srgbClr val="171796"/>
                </a:solidFill>
                <a:latin typeface="Arial"/>
                <a:ea typeface="Arial"/>
              </a:rPr>
              <a:t>not enough data were available to finalise the evaluation or data were not sufficient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20" name="Rectangle 7"/>
          <p:cNvSpPr/>
          <p:nvPr/>
        </p:nvSpPr>
        <p:spPr>
          <a:xfrm>
            <a:off x="179280" y="112536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Risks identified (acute risks)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933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Myriad Pro"/>
              </a:rPr>
              <a:t>Next step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250920" y="1915920"/>
            <a:ext cx="874872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1717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In June 2013, EFSA received a mandate to review the risk assessment for the PPPs applied as foliar spray, containing thiamethoxam, clothianidin and imidacloprid;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1717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From February to May 2014, EFSA conducted a peer review of study protocol submitted by the companies; 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1717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EFSA may be requested by the EC to review the new information.  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Chlorpyrifo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Conclusion on the peer review of the pesticide human health risk assessment of the active substance chlorpyrifo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ublished on 22 April 2014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Based on the use of the Red Blood Cell cholinesterase inhibition to derive the reference valu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This approach was endorsed by the PPR Panel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roposes new ADI and AOEL of 0.001 mg/kg bw per day, and an ARfD of 0.005 mg/kg bw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277560" indent="-27756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ecommends to set two separate residue definitions and to perform two separate consumer risk assessments, for chlorpyrifos and TCP respectively </a:t>
            </a:r>
            <a:r>
              <a:rPr b="0" lang="en-GB" sz="2400" spc="-1" strike="noStrike">
                <a:solidFill>
                  <a:srgbClr val="17179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 MRL setting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Microbial active substance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250920" y="134136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‘</a:t>
            </a: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Active substances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’: </a:t>
            </a:r>
            <a:r>
              <a:rPr b="1" lang="en-GB" sz="2800" spc="-1" strike="noStrike">
                <a:solidFill>
                  <a:srgbClr val="171796"/>
                </a:solidFill>
                <a:latin typeface="Myriad Pro"/>
              </a:rPr>
              <a:t>substances, including micro-organisms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having general or specific action against harmful organisms or on plants, parts of plants or plant products.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660960" indent="-254160">
              <a:spcBef>
                <a:spcPts val="649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‘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substances’: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chemical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 elements and their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compounds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, as they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occur naturally 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or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by manufacture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, including impurities from the manufacturing process</a:t>
            </a:r>
            <a:endParaRPr b="0" lang="en-US" sz="2600" spc="-1" strike="noStrike">
              <a:solidFill>
                <a:srgbClr val="171796"/>
              </a:solidFill>
              <a:latin typeface="Myriad Pro"/>
            </a:endParaRPr>
          </a:p>
          <a:p>
            <a:pPr lvl="1" marL="660960" indent="-254160">
              <a:spcBef>
                <a:spcPts val="649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‘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micro-organisms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’: microbiological entity, including lower fungi and viruses, cellular or non-cellular,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capable of replication </a:t>
            </a:r>
            <a:r>
              <a:rPr b="0" lang="en-GB" sz="2600" spc="-1" strike="noStrike">
                <a:solidFill>
                  <a:srgbClr val="171796"/>
                </a:solidFill>
                <a:latin typeface="Myriad Pro"/>
              </a:rPr>
              <a:t>or of </a:t>
            </a:r>
            <a:r>
              <a:rPr b="1" lang="en-GB" sz="2600" spc="-1" strike="noStrike">
                <a:solidFill>
                  <a:srgbClr val="171796"/>
                </a:solidFill>
                <a:latin typeface="Myriad Pro"/>
              </a:rPr>
              <a:t>transferring genetic material</a:t>
            </a:r>
            <a:endParaRPr b="0" lang="en-US" sz="26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Risk assessment for active substance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61128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pproval criteria for “active substances” (e.g. Annex II Reg. 1107/2009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Uniform principles (e.g. Reg. 546/2011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art 1. Chemical plant protection product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art 2. plant protection products containing micro-organism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Data requirements (e.g. Reg. 283/2013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art A. Chemical active substanc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743040" indent="-28584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Part B. Microorganisms including virus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29" name="Slide Number Placeholder 4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E176-CBB8-4B5B-A615-C119E78F6CB0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30" name="Rounded Rectangle 5"/>
          <p:cNvSpPr/>
          <p:nvPr/>
        </p:nvSpPr>
        <p:spPr>
          <a:xfrm>
            <a:off x="611280" y="5373720"/>
            <a:ext cx="4321080" cy="1295280"/>
          </a:xfrm>
          <a:prstGeom prst="roundRect">
            <a:avLst>
              <a:gd name="adj" fmla="val 16667"/>
            </a:avLst>
          </a:prstGeom>
          <a:solidFill>
            <a:srgbClr val="de7008"/>
          </a:solidFill>
          <a:ln w="93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Chemical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71796"/>
                </a:solidFill>
                <a:latin typeface="Verdana"/>
              </a:rPr>
              <a:t>Semiochemicals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71796"/>
                </a:solidFill>
                <a:latin typeface="Verdana"/>
              </a:rPr>
              <a:t>Microbial toxins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71796"/>
                </a:solidFill>
                <a:latin typeface="Verdana"/>
              </a:rPr>
              <a:t>Inert microorganisms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31" name="Rounded Rectangle 6"/>
          <p:cNvSpPr/>
          <p:nvPr/>
        </p:nvSpPr>
        <p:spPr>
          <a:xfrm>
            <a:off x="5292720" y="5373720"/>
            <a:ext cx="3311640" cy="1368360"/>
          </a:xfrm>
          <a:prstGeom prst="roundRect">
            <a:avLst>
              <a:gd name="adj" fmla="val 16667"/>
            </a:avLst>
          </a:prstGeom>
          <a:solidFill>
            <a:srgbClr val="de7008"/>
          </a:solidFill>
          <a:ln w="93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Microbial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32" name="Picture 8" descr="https://dam.efsa.europa.eu/mediabin/PreviewImage.asp?type=4&amp;repoid=%7b3575ACE0-70DC-4DF9-BE50-4E465069D100%7d&amp;version=4&amp;validate=NLFPLGNSKJ&amp;md=12-2-20136-07-59PM"/>
          <p:cNvPicPr/>
          <p:nvPr/>
        </p:nvPicPr>
        <p:blipFill>
          <a:blip r:embed="rId1"/>
          <a:stretch/>
        </p:blipFill>
        <p:spPr>
          <a:xfrm>
            <a:off x="7380360" y="5516640"/>
            <a:ext cx="1079280" cy="108108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10" descr="https://dam.efsa.europa.eu/mediabin/PreviewImage.asp?type=4&amp;repoid=%7b54ADB5BA-6D01-4C3D-8F44-9F8277BF402E%7d&amp;version=6&amp;validate=NLFPLGNSKJ&amp;md=8-30-20134-39-41PM"/>
          <p:cNvPicPr/>
          <p:nvPr/>
        </p:nvPicPr>
        <p:blipFill>
          <a:blip r:embed="rId2"/>
          <a:stretch/>
        </p:blipFill>
        <p:spPr>
          <a:xfrm>
            <a:off x="3564000" y="5445000"/>
            <a:ext cx="1233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Microorganism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171796"/>
                </a:solidFill>
                <a:latin typeface="Myriad Pro"/>
              </a:rPr>
              <a:t>Bacillus pumilus strain QST 2808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field and greenhouse spraying applications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171796"/>
                </a:solidFill>
                <a:latin typeface="Myriad Pro"/>
              </a:rPr>
              <a:t>Streptomyces lydicus WYEC 108: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high volume drench, via drip irrigation systems, seed treatmen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Zucchini yellow mosaic virus - weak strain (ZYMV-WK) applications by jet injection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…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336" name="TextBox 5"/>
          <p:cNvSpPr/>
          <p:nvPr/>
        </p:nvSpPr>
        <p:spPr>
          <a:xfrm>
            <a:off x="288720" y="126828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Arial"/>
                <a:ea typeface="Arial"/>
              </a:rPr>
              <a:t>Conclusions cover different taxa and application rout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PPR Panel expertise 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17928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Twenty-one independent scientific experts, covering: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Chemical active substances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Microbiological active substanc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Physical-chemical properties of pesticid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Methods of analysis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of pesticid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Toxicology and regulatory toxicology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Non dietary exposure and risk assessment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of pesticid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Dietary exposure and risk assessment of pesticides residues in food and feed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Environmental fate and behaviour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of pesticide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Ecotoxicology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Ecology and population dynamics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71796"/>
                </a:solidFill>
                <a:latin typeface="Myriad Pro"/>
              </a:rPr>
              <a:t>Ecological/Environmental exposure and risk assessment</a:t>
            </a: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.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08520" indent="-308520">
              <a:spcBef>
                <a:spcPts val="49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199" name="Slide Number Placeholder 2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87BA-2C79-46A7-BF49-F06625F0E2C0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00" name="Picture 2" descr="C:\Program Files\Microsoft Office\MEDIA\CAGCAT10\j0233018.wmf"/>
          <p:cNvPicPr/>
          <p:nvPr/>
        </p:nvPicPr>
        <p:blipFill>
          <a:blip r:embed="rId1"/>
          <a:stretch/>
        </p:blipFill>
        <p:spPr>
          <a:xfrm>
            <a:off x="7020000" y="1341360"/>
            <a:ext cx="21240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Main basis for the conclusion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250920" y="1413000"/>
            <a:ext cx="880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Did not cause signs of toxicity, infectivity and pathogenicity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Due to lack of data on the potential production of toxins/metabolites of concern risk assessment cannot be finalised.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249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Potential risk of infecting and producing adverse effects in animal hosts and humans is low.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Risk (effects and transmission) for non-target plants could not be finalise 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3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18960" indent="-3189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2"/>
          <p:cNvSpPr/>
          <p:nvPr/>
        </p:nvSpPr>
        <p:spPr>
          <a:xfrm>
            <a:off x="395280" y="0"/>
            <a:ext cx="8424720" cy="64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yriad Pro"/>
              </a:rPr>
              <a:t>Data gaps / issues identified in EFSA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yriad Pro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yriad Pro"/>
              </a:rPr>
              <a:t>pesticide conclusions on microorganisms: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Methods for identify the strain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Interference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on prescribed methods of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analysis for pathogens in drinking water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Relationships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(lack of) to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known pathogen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Competitiveness / multiplication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Transfer of genetic information to other species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(primary concern plasmids between bacteria species)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Capacity for producing metabolites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including other strains of the species, conditions of production.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Production and levels of metabolites in environmental compartment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Ecotoxicity studies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too short to conclude lack of pathogenicity or infectivity to non target speci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2"/>
          <p:cNvSpPr/>
          <p:nvPr/>
        </p:nvSpPr>
        <p:spPr>
          <a:xfrm>
            <a:off x="395280" y="260280"/>
            <a:ext cx="84978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yriad Pro"/>
              </a:rPr>
              <a:t>Peer reviewed scientific literature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Systematic review of the available literature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for the organism strain and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metabolites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that the strain or species might produce,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following the EFSA 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May cover other strains of the same or related speci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When evidence is cited, </a:t>
            </a:r>
            <a:r>
              <a:rPr b="1" lang="en-US" sz="2400" spc="-1" strike="noStrike">
                <a:solidFill>
                  <a:srgbClr val="171796"/>
                </a:solidFill>
                <a:latin typeface="Myriad Pro"/>
              </a:rPr>
              <a:t>the paper should be included in the dossier</a:t>
            </a:r>
            <a:r>
              <a:rPr b="0" lang="en-US" sz="24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341" name="Straight Arrow Connector 10"/>
          <p:cNvCxnSpPr>
            <a:endCxn id="1342" idx="1"/>
          </p:cNvCxnSpPr>
          <p:nvPr/>
        </p:nvCxnSpPr>
        <p:spPr>
          <a:xfrm flipV="1">
            <a:off x="2123640" y="5748120"/>
            <a:ext cx="5256720" cy="57600"/>
          </a:xfrm>
          <a:prstGeom prst="straightConnector1">
            <a:avLst/>
          </a:prstGeom>
          <a:ln w="76320">
            <a:solidFill>
              <a:srgbClr val="171796"/>
            </a:solidFill>
            <a:miter/>
            <a:tailEnd len="med" type="triangle" w="med"/>
          </a:ln>
        </p:spPr>
      </p:cxnSp>
      <p:pic>
        <p:nvPicPr>
          <p:cNvPr id="1343" name="Picture 8" descr="https://dam.efsa.europa.eu/mediabin/PreviewImage.asp?type=4&amp;repoid=%7b3575ACE0-70DC-4DF9-BE50-4E465069D100%7d&amp;version=4&amp;validate=NLFPLGNSKJ&amp;md=12-2-20136-07-59PM"/>
          <p:cNvPicPr/>
          <p:nvPr/>
        </p:nvPicPr>
        <p:blipFill>
          <a:blip r:embed="rId1"/>
          <a:stretch/>
        </p:blipFill>
        <p:spPr>
          <a:xfrm>
            <a:off x="2484360" y="4869000"/>
            <a:ext cx="1081080" cy="107928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10" descr="https://dam.efsa.europa.eu/mediabin/PreviewImage.asp?type=4&amp;repoid=%7b54ADB5BA-6D01-4C3D-8F44-9F8277BF402E%7d&amp;version=6&amp;validate=NLFPLGNSKJ&amp;md=8-30-20134-39-41PM"/>
          <p:cNvPicPr/>
          <p:nvPr/>
        </p:nvPicPr>
        <p:blipFill>
          <a:blip r:embed="rId2"/>
          <a:stretch/>
        </p:blipFill>
        <p:spPr>
          <a:xfrm>
            <a:off x="3780000" y="5516640"/>
            <a:ext cx="1015920" cy="102240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6" descr="https://dam.efsa.europa.eu/mediabin/PreviewImage.asp?type=4&amp;repoid=%7bFC0615E1-6E08-4091-A6D9-C9955B9124EE%7d&amp;version=5&amp;validate=NLFPLGNSKJ&amp;md=11-29-20125-35-47PM"/>
          <p:cNvPicPr/>
          <p:nvPr/>
        </p:nvPicPr>
        <p:blipFill>
          <a:blip r:embed="rId3"/>
          <a:stretch/>
        </p:blipFill>
        <p:spPr>
          <a:xfrm>
            <a:off x="395280" y="5013360"/>
            <a:ext cx="1725480" cy="115236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6" descr="https://dam.efsa.europa.eu/mediabin/PreviewImage.asp?type=4&amp;repoid=%7bFC706DC2-41FD-4DD0-830B-4E750A2B7E9C%7d&amp;version=1&amp;validate=NLFPLGNSKJ&amp;md=12-6-20132-31-33PM"/>
          <p:cNvPicPr/>
          <p:nvPr/>
        </p:nvPicPr>
        <p:blipFill>
          <a:blip r:embed="rId4"/>
          <a:stretch/>
        </p:blipFill>
        <p:spPr>
          <a:xfrm>
            <a:off x="5435640" y="4581360"/>
            <a:ext cx="1341360" cy="2006640"/>
          </a:xfrm>
          <a:prstGeom prst="rect">
            <a:avLst/>
          </a:prstGeom>
          <a:ln w="0">
            <a:noFill/>
          </a:ln>
        </p:spPr>
      </p:pic>
      <p:sp>
        <p:nvSpPr>
          <p:cNvPr id="1347" name="TextBox 11"/>
          <p:cNvSpPr/>
          <p:nvPr/>
        </p:nvSpPr>
        <p:spPr>
          <a:xfrm>
            <a:off x="553320" y="61657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RELEAS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48" name="TextBox 8"/>
          <p:cNvSpPr/>
          <p:nvPr/>
        </p:nvSpPr>
        <p:spPr>
          <a:xfrm>
            <a:off x="5691240" y="4724280"/>
            <a:ext cx="872640" cy="459720"/>
          </a:xfrm>
          <a:prstGeom prst="rect">
            <a:avLst/>
          </a:prstGeom>
          <a:solidFill>
            <a:srgbClr val="fbf1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FAT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49" name="TextBox 11"/>
          <p:cNvSpPr/>
          <p:nvPr/>
        </p:nvSpPr>
        <p:spPr>
          <a:xfrm>
            <a:off x="2411280" y="43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 Narrow"/>
              </a:rPr>
              <a:t>HAZARD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50" name="TextBox 12"/>
          <p:cNvSpPr/>
          <p:nvPr/>
        </p:nvSpPr>
        <p:spPr>
          <a:xfrm>
            <a:off x="3708360" y="5013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 Narrow"/>
              </a:rPr>
              <a:t>HAZARD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51" name="TextBox 13"/>
          <p:cNvSpPr/>
          <p:nvPr/>
        </p:nvSpPr>
        <p:spPr>
          <a:xfrm>
            <a:off x="5435640" y="4076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 Narrow"/>
              </a:rPr>
              <a:t>HAZARD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352" name="Picture 10" descr="https://dam.efsa.europa.eu/mediabin/PreviewImage.asp?type=4&amp;repoid=%7b54ADB5BA-6D01-4C3D-8F44-9F8277BF402E%7d&amp;version=6&amp;validate=NLFPLGNSKJ&amp;md=8-30-20134-39-41PM"/>
          <p:cNvPicPr/>
          <p:nvPr/>
        </p:nvPicPr>
        <p:blipFill>
          <a:blip r:embed="rId5"/>
          <a:stretch/>
        </p:blipFill>
        <p:spPr>
          <a:xfrm rot="1999200">
            <a:off x="5579640" y="5670720"/>
            <a:ext cx="792360" cy="796680"/>
          </a:xfrm>
          <a:prstGeom prst="rect">
            <a:avLst/>
          </a:prstGeom>
          <a:ln w="0">
            <a:noFill/>
          </a:ln>
        </p:spPr>
      </p:pic>
      <p:sp>
        <p:nvSpPr>
          <p:cNvPr id="1342" name="TextBox 15"/>
          <p:cNvSpPr/>
          <p:nvPr/>
        </p:nvSpPr>
        <p:spPr>
          <a:xfrm>
            <a:off x="7494480" y="551664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RISK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693396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Myriad Pro"/>
              </a:rPr>
              <a:t>MRL reasoned opinions included in EFSA Conclusions</a:t>
            </a:r>
            <a:endParaRPr b="0" lang="en-US" sz="28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533520" y="1428840"/>
            <a:ext cx="832464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Myriad Pro"/>
              </a:rPr>
              <a:t>New Conclusion and LOEP template 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will be as a stand-alone document containing </a:t>
            </a:r>
            <a:r>
              <a:rPr b="1" lang="en-GB" sz="2400" spc="-1" strike="noStrike">
                <a:solidFill>
                  <a:srgbClr val="171796"/>
                </a:solidFill>
                <a:latin typeface="Myriad Pro"/>
              </a:rPr>
              <a:t>also the information needed to provide the reasoned EFSA opinion on MRL proposals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.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22200" indent="-32220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22200" indent="-322200">
              <a:spcBef>
                <a:spcPts val="601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Myriad Pro"/>
              </a:rPr>
              <a:t>MRL applications on import tolerances should not be assessed as long 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s the documentation corresponding national legislation of the exporting country as not been submitted 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Myriad Pro"/>
              </a:rPr>
              <a:t>active substance effectively registered in the exporting country, and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Myriad Pro"/>
              </a:rPr>
              <a:t>MRL published in the national legislation of the exporting country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  <a:ea typeface="MS Pゴシック"/>
              </a:rPr>
              <a:t>Pesticides Unit. Regular activitie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356" name="Straight Arrow Connector 13"/>
          <p:cNvCxnSpPr/>
          <p:nvPr/>
        </p:nvCxnSpPr>
        <p:spPr>
          <a:xfrm flipV="1">
            <a:off x="3851280" y="2348640"/>
            <a:ext cx="721440" cy="1044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triangle" w="med"/>
          </a:ln>
        </p:spPr>
      </p:cxnSp>
      <p:sp>
        <p:nvSpPr>
          <p:cNvPr id="1357" name="TextBox 12"/>
          <p:cNvSpPr/>
          <p:nvPr/>
        </p:nvSpPr>
        <p:spPr>
          <a:xfrm>
            <a:off x="468360" y="566100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71796"/>
                </a:solidFill>
                <a:latin typeface="Arial"/>
                <a:ea typeface="Arial"/>
              </a:rPr>
              <a:t>Maximum Residue Levels MRL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58" name="TextBox 17"/>
          <p:cNvSpPr/>
          <p:nvPr/>
        </p:nvSpPr>
        <p:spPr>
          <a:xfrm>
            <a:off x="4643280" y="5589720"/>
            <a:ext cx="3600720" cy="76716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Reasoned 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Arial"/>
                <a:ea typeface="MS Pゴシック"/>
              </a:rPr>
              <a:t>Annual report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359" name="Straight Arrow Connector 18"/>
          <p:cNvCxnSpPr>
            <a:stCxn id="1357" idx="3"/>
            <a:endCxn id="1358" idx="1"/>
          </p:cNvCxnSpPr>
          <p:nvPr/>
        </p:nvCxnSpPr>
        <p:spPr>
          <a:xfrm flipV="1">
            <a:off x="3851280" y="5973120"/>
            <a:ext cx="792720" cy="1188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triangle" w="med"/>
          </a:ln>
        </p:spPr>
      </p:cxnSp>
      <p:sp>
        <p:nvSpPr>
          <p:cNvPr id="1360" name="TextBox 19"/>
          <p:cNvSpPr/>
          <p:nvPr/>
        </p:nvSpPr>
        <p:spPr>
          <a:xfrm>
            <a:off x="468360" y="1700280"/>
            <a:ext cx="3382920" cy="119124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6a6a6"/>
                </a:solidFill>
                <a:latin typeface="Arial"/>
                <a:ea typeface="Arial"/>
              </a:rPr>
              <a:t>Supports the Scientific Panel for pesticides PPR (Plant Protection Product and their Residues).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61" name="TextBox 20"/>
          <p:cNvSpPr/>
          <p:nvPr/>
        </p:nvSpPr>
        <p:spPr>
          <a:xfrm>
            <a:off x="4572000" y="1773360"/>
            <a:ext cx="3600360" cy="11354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Opinion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Guidance document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  <a:p>
            <a:pPr lvl="2" marL="266760" indent="-266760" algn="just">
              <a:lnSpc>
                <a:spcPct val="100000"/>
              </a:lnSpc>
              <a:spcBef>
                <a:spcPts val="4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6a6a6"/>
                </a:solidFill>
                <a:latin typeface="Arial"/>
                <a:ea typeface="MS Pゴシック"/>
              </a:rPr>
              <a:t>Ad-hoc mandate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62" name="TextBox 22"/>
          <p:cNvSpPr/>
          <p:nvPr/>
        </p:nvSpPr>
        <p:spPr>
          <a:xfrm>
            <a:off x="395280" y="3860640"/>
            <a:ext cx="3382920" cy="642600"/>
          </a:xfrm>
          <a:prstGeom prst="rect">
            <a:avLst/>
          </a:prstGeom>
          <a:noFill/>
          <a:ln w="1260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6a6a6"/>
                </a:solidFill>
                <a:latin typeface="Arial"/>
                <a:ea typeface="Arial"/>
              </a:rPr>
              <a:t>Coordinates the Peer Review of active substance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63" name="TextBox 23"/>
          <p:cNvSpPr/>
          <p:nvPr/>
        </p:nvSpPr>
        <p:spPr>
          <a:xfrm>
            <a:off x="4572000" y="3573360"/>
            <a:ext cx="3600360" cy="1191240"/>
          </a:xfrm>
          <a:prstGeom prst="rect">
            <a:avLst/>
          </a:prstGeom>
          <a:noFill/>
          <a:ln w="9360">
            <a:solidFill>
              <a:srgbClr val="505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6a6a6"/>
                </a:solidFill>
                <a:latin typeface="Arial"/>
                <a:ea typeface="Arial"/>
              </a:rPr>
              <a:t>Provides Conclusions for single active substances to support the EU decision-makers</a:t>
            </a:r>
            <a:endParaRPr b="0" lang="en-US" sz="18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364" name="Straight Arrow Connector 24"/>
          <p:cNvCxnSpPr>
            <a:stCxn id="1362" idx="3"/>
            <a:endCxn id="1363" idx="1"/>
          </p:cNvCxnSpPr>
          <p:nvPr/>
        </p:nvCxnSpPr>
        <p:spPr>
          <a:xfrm flipV="1">
            <a:off x="3777840" y="4172760"/>
            <a:ext cx="794520" cy="11880"/>
          </a:xfrm>
          <a:prstGeom prst="straightConnector1">
            <a:avLst/>
          </a:prstGeom>
          <a:ln w="57240">
            <a:solidFill>
              <a:srgbClr val="5050e4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Slide Number Placeholder 5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2ACB-F78F-4E13-8978-90F24550E83B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EU MRL legislation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8229600" cy="48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0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71796"/>
                </a:solidFill>
                <a:latin typeface="Myriad Pro"/>
              </a:rPr>
              <a:t>Regulation (EC) No 396/2005 of the European Parliament and of the Council on maximum residue levels in or on food and feed of plant and animal origin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Procedure for MRL setting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Official control of MRLs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Definition of responsibilities (role of Member States, European Commission, European Food Safety Authority, manufacturer of pesticides, food business operator, etc.)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71796"/>
                </a:solidFill>
                <a:latin typeface="Myriad Pro"/>
              </a:rPr>
              <a:t>Annexes </a:t>
            </a: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I: List of commodities for which MRLs are established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II and Annex III: List of MRLs 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IV: Active substances exempted from setting MRLs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V: specific LOQ values 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-228600" algn="just">
              <a:lnSpc>
                <a:spcPct val="90000"/>
              </a:lnSpc>
              <a:spcBef>
                <a:spcPts val="400"/>
              </a:spcBef>
              <a:buClr>
                <a:srgbClr val="1717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1796"/>
                </a:solidFill>
                <a:latin typeface="Myriad Pro"/>
              </a:rPr>
              <a:t>Annex VI: processing factors</a:t>
            </a: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71796"/>
                </a:solidFill>
                <a:latin typeface="Myriad Pro"/>
              </a:rPr>
              <a:t>Basic regulation: </a:t>
            </a:r>
            <a:br>
              <a:rPr sz="1400"/>
            </a:br>
            <a:r>
              <a:rPr b="0" lang="en-GB" sz="1400" spc="-1" strike="noStrike">
                <a:solidFill>
                  <a:srgbClr val="171796"/>
                </a:solidFill>
                <a:latin typeface="Myriad Pro"/>
              </a:rPr>
              <a:t>http://eur-lex.europa.eu/LexUriServ/LexUriServ.do?uri=OJ:L:2005:070:0001:0016:EN:PDF</a:t>
            </a: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lvl="1" marL="59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71796"/>
                </a:solidFill>
                <a:latin typeface="Myriad Pro"/>
              </a:rPr>
              <a:t> </a:t>
            </a:r>
            <a:endParaRPr b="0" lang="en-US" sz="1400" spc="-1" strike="noStrike">
              <a:solidFill>
                <a:srgbClr val="171796"/>
              </a:solidFill>
              <a:latin typeface="Myriad Pro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EFSA MRL reasoned opinion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53964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bout 50 RO/year reviewing MRLs for approved/non-approved active substances (Art 12 ROs)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bout 60-70 RO/year new proposals and modifications of existing MRL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marL="343080" indent="-34308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Further details in a later presentation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Myriad Pro"/>
              </a:rPr>
              <a:t>Procedure for MRL setting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428400" y="1357200"/>
            <a:ext cx="853596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Initiated by PPP applicants, growers, importers, food producers, MSs,…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Includes a dossier with: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GAP (Good Agricultural Practice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Residue data package (Annex II, chapter 6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Toxicological data package (if no EU ADI/ARfD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nalytical methods for monitoring/enforcement of MRL in the relevant crop (Annex II, chapter 4.2)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The Rapporteur MS produces an Evaluation Repor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EFSA scientific staff assess the information and conduct a consumers risk assessment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Footer Placeholder 3"/>
          <p:cNvSpPr/>
          <p:nvPr/>
        </p:nvSpPr>
        <p:spPr>
          <a:xfrm>
            <a:off x="6134040" y="447840"/>
            <a:ext cx="25052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373" name="TextBox 5"/>
          <p:cNvSpPr/>
          <p:nvPr/>
        </p:nvSpPr>
        <p:spPr>
          <a:xfrm>
            <a:off x="4304880" y="3357720"/>
            <a:ext cx="294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71796"/>
                </a:solidFill>
                <a:latin typeface="Verdana"/>
              </a:rPr>
              <a:t>Thank You</a:t>
            </a:r>
            <a:endParaRPr b="0" lang="en-US" sz="44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1" name="Oval 11"/>
          <p:cNvGrpSpPr/>
          <p:nvPr/>
        </p:nvGrpSpPr>
        <p:grpSpPr>
          <a:xfrm>
            <a:off x="2639880" y="225360"/>
            <a:ext cx="3973680" cy="2262240"/>
            <a:chOff x="2639880" y="225360"/>
            <a:chExt cx="3973680" cy="2262240"/>
          </a:xfrm>
        </p:grpSpPr>
        <p:pic>
          <p:nvPicPr>
            <p:cNvPr id="1202" name="Oval 11" descr=""/>
            <p:cNvPicPr/>
            <p:nvPr/>
          </p:nvPicPr>
          <p:blipFill>
            <a:blip r:embed="rId1"/>
            <a:stretch/>
          </p:blipFill>
          <p:spPr>
            <a:xfrm>
              <a:off x="2639880" y="225360"/>
              <a:ext cx="397368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3" name=""/>
            <p:cNvSpPr/>
            <p:nvPr/>
          </p:nvSpPr>
          <p:spPr>
            <a:xfrm>
              <a:off x="3265560" y="574560"/>
              <a:ext cx="272736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71796"/>
                </a:solidFill>
                <a:latin typeface="Verdana"/>
              </a:endParaRPr>
            </a:p>
          </p:txBody>
        </p:sp>
      </p:grpSp>
      <p:grpSp>
        <p:nvGrpSpPr>
          <p:cNvPr id="1204" name="Oval 7"/>
          <p:cNvGrpSpPr/>
          <p:nvPr/>
        </p:nvGrpSpPr>
        <p:grpSpPr>
          <a:xfrm>
            <a:off x="731880" y="2548080"/>
            <a:ext cx="7759800" cy="4329000"/>
            <a:chOff x="731880" y="2548080"/>
            <a:chExt cx="7759800" cy="4329000"/>
          </a:xfrm>
        </p:grpSpPr>
        <p:pic>
          <p:nvPicPr>
            <p:cNvPr id="1205" name="Oval 7" descr=""/>
            <p:cNvPicPr/>
            <p:nvPr/>
          </p:nvPicPr>
          <p:blipFill>
            <a:blip r:embed="rId2"/>
            <a:stretch/>
          </p:blipFill>
          <p:spPr>
            <a:xfrm>
              <a:off x="731880" y="2548080"/>
              <a:ext cx="7759800" cy="43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6" name=""/>
            <p:cNvSpPr/>
            <p:nvPr/>
          </p:nvSpPr>
          <p:spPr>
            <a:xfrm>
              <a:off x="1886040" y="3198960"/>
              <a:ext cx="5454720" cy="30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71796"/>
                </a:solidFill>
                <a:latin typeface="Verdana"/>
              </a:endParaRPr>
            </a:p>
          </p:txBody>
        </p:sp>
      </p:grpSp>
      <p:sp>
        <p:nvSpPr>
          <p:cNvPr id="1207" name="Slide Number Placeholder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4220-ACC2-43EB-8408-B91EEC59F59F}" type="slidenum">
              <a:rPr b="0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08" name="Diagram 2" descr=""/>
          <p:cNvPicPr/>
          <p:nvPr/>
        </p:nvPicPr>
        <p:blipFill>
          <a:blip r:embed="rId3"/>
          <a:stretch/>
        </p:blipFill>
        <p:spPr>
          <a:xfrm>
            <a:off x="603360" y="1407960"/>
            <a:ext cx="8076960" cy="505332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3" descr="C:\Documents and Settings\reichhe\Local Settings\Temporary Internet Files\Content.IE5\IWDBSYJ6\MC900384206[1].wmf"/>
          <p:cNvPicPr/>
          <p:nvPr/>
        </p:nvPicPr>
        <p:blipFill>
          <a:blip r:embed="rId4"/>
          <a:stretch/>
        </p:blipFill>
        <p:spPr>
          <a:xfrm>
            <a:off x="3286080" y="1428840"/>
            <a:ext cx="1300320" cy="1812960"/>
          </a:xfrm>
          <a:prstGeom prst="rect">
            <a:avLst/>
          </a:prstGeom>
          <a:ln w="0">
            <a:noFill/>
          </a:ln>
        </p:spPr>
      </p:pic>
      <p:sp>
        <p:nvSpPr>
          <p:cNvPr id="1210" name="TextBox 9"/>
          <p:cNvSpPr/>
          <p:nvPr/>
        </p:nvSpPr>
        <p:spPr>
          <a:xfrm>
            <a:off x="2843280" y="1125360"/>
            <a:ext cx="32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Opinions &amp; Guidance documents</a:t>
            </a:r>
            <a:endParaRPr b="0" lang="en-US" sz="20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1" name="TextBox 10"/>
          <p:cNvSpPr/>
          <p:nvPr/>
        </p:nvSpPr>
        <p:spPr>
          <a:xfrm>
            <a:off x="2627280" y="551664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cientific staff working with Member States expert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2" name="TextBox 12"/>
          <p:cNvSpPr/>
          <p:nvPr/>
        </p:nvSpPr>
        <p:spPr>
          <a:xfrm>
            <a:off x="2987640" y="6922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Verdana"/>
              </a:rPr>
              <a:t>PPR Panel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3" name="Rectangle 2"/>
          <p:cNvSpPr/>
          <p:nvPr/>
        </p:nvSpPr>
        <p:spPr>
          <a:xfrm>
            <a:off x="142920" y="142920"/>
            <a:ext cx="793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yriad Pro"/>
              </a:rPr>
              <a:t>Pesticides Unit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3"/>
          <p:cNvSpPr/>
          <p:nvPr/>
        </p:nvSpPr>
        <p:spPr>
          <a:xfrm>
            <a:off x="250920" y="1484280"/>
            <a:ext cx="85690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e7008"/>
                </a:solidFill>
                <a:uFillTx/>
                <a:latin typeface="Verdana"/>
                <a:hlinkClick r:id="rId1"/>
              </a:rPr>
              <a:t> Good modelling practice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7 March 2014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e7008"/>
                </a:solidFill>
                <a:uFillTx/>
                <a:latin typeface="Verdana"/>
                <a:hlinkClick r:id="rId2"/>
              </a:rPr>
              <a:t> Developmental neurotoxicity potential of acetamiprid and imidacloprid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17 December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e7008"/>
                </a:solidFill>
                <a:uFillTx/>
                <a:latin typeface="Verdana"/>
                <a:hlinkClick r:id="rId3"/>
              </a:rPr>
              <a:t> Relevance of dissimilar mode of action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3 December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Guidance on tiered risk assessment for edge-of-field surface water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18 July 2013 Guidance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Cumulative Assessment Groups for Pesticides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12 July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FOCUS groundwater: Assessment of Higher Tiers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28 June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FOCUS groundwater: Assessment of Lower Tiers </a:t>
            </a:r>
            <a:r>
              <a:rPr b="0" lang="en-GB" sz="1600" spc="-1" strike="noStrike">
                <a:solidFill>
                  <a:srgbClr val="171796"/>
                </a:solidFill>
                <a:latin typeface="Verdana"/>
              </a:rPr>
              <a:t>27 February 2013 Scientific Opinion PPR Panel </a:t>
            </a:r>
            <a:endParaRPr b="0" lang="en-US" sz="16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5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</a:rPr>
              <a:t>PPR outputs 2013- 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3"/>
          <p:cNvSpPr/>
          <p:nvPr/>
        </p:nvSpPr>
        <p:spPr>
          <a:xfrm>
            <a:off x="250920" y="1268280"/>
            <a:ext cx="856908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addressing the state of the science on risk assessment for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non-target arthropod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addressing the state of the science on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in-soil risk assessment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addressing the state of the science on risk-assessment for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non-target terrestrial plant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addressing the state of the science on risk assessment for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amphibians and reptiles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Opinion on the FERA guidance proposal “Guidance on how </a:t>
            </a: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aged sorption studies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for pesticides should be conducted, analysed and used in regulatory assessments” (FERA, 2012)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…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7" name="Rectangle 4"/>
          <p:cNvSpPr/>
          <p:nvPr/>
        </p:nvSpPr>
        <p:spPr>
          <a:xfrm>
            <a:off x="214200" y="214200"/>
            <a:ext cx="709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yriad Pro"/>
              </a:rPr>
              <a:t>PPR ongoing opinion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icture 14"/>
          <p:cNvSpPr/>
          <p:nvPr/>
        </p:nvSpPr>
        <p:spPr>
          <a:xfrm rot="5400000">
            <a:off x="5615640" y="2258280"/>
            <a:ext cx="270036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19" name="Rectangle 9"/>
          <p:cNvSpPr/>
          <p:nvPr/>
        </p:nvSpPr>
        <p:spPr>
          <a:xfrm>
            <a:off x="179280" y="1484280"/>
            <a:ext cx="89647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71796"/>
                </a:solidFill>
                <a:latin typeface="Myriad Pro"/>
              </a:rPr>
              <a:t>Development of a guidance document : typical sequence of events</a:t>
            </a:r>
            <a:endParaRPr b="0" lang="en-US" sz="32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Identification of a need / Drafting of a mandate 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ollection of data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Opinion of the PPR Panel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Establishment of a Working Group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Preparation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Consultations 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Adoption (or approval) of the Guidance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   </a:t>
            </a: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Entry into force </a:t>
            </a:r>
            <a:endParaRPr b="0" lang="en-US" sz="28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20" name="Picture 4"/>
          <p:cNvSpPr/>
          <p:nvPr/>
        </p:nvSpPr>
        <p:spPr>
          <a:xfrm>
            <a:off x="5214960" y="3429000"/>
            <a:ext cx="345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Guidance document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PPR and guidance document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23" name="TextBox 7"/>
          <p:cNvSpPr/>
          <p:nvPr/>
        </p:nvSpPr>
        <p:spPr>
          <a:xfrm>
            <a:off x="2627280" y="177336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717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Scientific opinions: as starting point for further 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cxnSp>
        <p:nvCxnSpPr>
          <p:cNvPr id="1224" name="Elbow Connector 9"/>
          <p:cNvCxnSpPr/>
          <p:nvPr/>
        </p:nvCxnSpPr>
        <p:spPr>
          <a:xfrm>
            <a:off x="2556000" y="3429000"/>
            <a:ext cx="3745440" cy="1440360"/>
          </a:xfrm>
          <a:prstGeom prst="bentConnector3">
            <a:avLst>
              <a:gd name="adj1" fmla="val 58858"/>
            </a:avLst>
          </a:prstGeom>
          <a:ln w="76320">
            <a:solidFill>
              <a:srgbClr val="5050e4"/>
            </a:solidFill>
            <a:round/>
            <a:tailEnd len="med" type="triangle" w="med"/>
          </a:ln>
        </p:spPr>
      </p:cxnSp>
      <p:cxnSp>
        <p:nvCxnSpPr>
          <p:cNvPr id="1225" name="Straight Arrow Connector 13"/>
          <p:cNvCxnSpPr/>
          <p:nvPr/>
        </p:nvCxnSpPr>
        <p:spPr>
          <a:xfrm flipH="1">
            <a:off x="3131640" y="4868640"/>
            <a:ext cx="1728000" cy="1080"/>
          </a:xfrm>
          <a:prstGeom prst="straightConnector1">
            <a:avLst/>
          </a:prstGeom>
          <a:ln w="76320">
            <a:solidFill>
              <a:srgbClr val="5050e4"/>
            </a:solidFill>
            <a:miter/>
            <a:tailEnd len="med" type="triangle" w="med"/>
          </a:ln>
        </p:spPr>
      </p:cxnSp>
      <p:sp>
        <p:nvSpPr>
          <p:cNvPr id="1226" name="TextBox 17"/>
          <p:cNvSpPr/>
          <p:nvPr/>
        </p:nvSpPr>
        <p:spPr>
          <a:xfrm>
            <a:off x="3101040" y="5157720"/>
            <a:ext cx="1537200" cy="825480"/>
          </a:xfrm>
          <a:prstGeom prst="rect">
            <a:avLst/>
          </a:prstGeom>
          <a:noFill/>
          <a:ln w="381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PPR</a:t>
            </a: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sp>
        <p:nvSpPr>
          <p:cNvPr id="1227" name="TextBox 18"/>
          <p:cNvSpPr/>
          <p:nvPr/>
        </p:nvSpPr>
        <p:spPr>
          <a:xfrm>
            <a:off x="4829040" y="5157720"/>
            <a:ext cx="1537200" cy="825480"/>
          </a:xfrm>
          <a:prstGeom prst="rect">
            <a:avLst/>
          </a:prstGeom>
          <a:noFill/>
          <a:ln w="38160">
            <a:solidFill>
              <a:srgbClr val="171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1796"/>
                </a:solidFill>
                <a:latin typeface="Verdana"/>
              </a:rPr>
              <a:t>EFSA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Verdana"/>
              </a:rPr>
              <a:t>Guidance</a:t>
            </a:r>
            <a:endParaRPr b="0" lang="en-US" sz="24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28" name="Picture 1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82028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Myriad Pro"/>
              </a:rPr>
              <a:t>Protection goals</a:t>
            </a:r>
            <a:endParaRPr b="0" lang="en-US" sz="3600" spc="-1" strike="noStrike">
              <a:solidFill>
                <a:srgbClr val="ffffff"/>
              </a:solidFill>
              <a:latin typeface="Myriad Pro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323640" y="1557000"/>
            <a:ext cx="856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1796"/>
                </a:solidFill>
                <a:latin typeface="Myriad Pro"/>
              </a:rPr>
              <a:t>Based on the regulatory frame:</a:t>
            </a: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  <a:p>
            <a:pPr lvl="1" marL="683280" indent="-262800">
              <a:spcBef>
                <a:spcPts val="601"/>
              </a:spcBef>
              <a:buClr>
                <a:srgbClr val="171796"/>
              </a:buClr>
              <a:buFont typeface="Myriad Pr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1796"/>
                </a:solidFill>
                <a:latin typeface="Myriad Pro"/>
              </a:rPr>
              <a:t>Approval criteria, data requirements, uniform principles</a:t>
            </a:r>
            <a:endParaRPr b="0" lang="en-US" sz="2400" spc="-1" strike="noStrike">
              <a:solidFill>
                <a:srgbClr val="171796"/>
              </a:solidFill>
              <a:latin typeface="Myriad Pro"/>
            </a:endParaRPr>
          </a:p>
          <a:p>
            <a:pPr marL="315360" indent="-315360">
              <a:spcBef>
                <a:spcPts val="700"/>
              </a:spcBef>
              <a:buClr>
                <a:srgbClr val="171796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1796"/>
              </a:solidFill>
              <a:latin typeface="Myriad Pro"/>
            </a:endParaRPr>
          </a:p>
        </p:txBody>
      </p:sp>
      <p:sp>
        <p:nvSpPr>
          <p:cNvPr id="1231" name="Slide Number Placeholder 2"/>
          <p:cNvSpPr/>
          <p:nvPr/>
        </p:nvSpPr>
        <p:spPr>
          <a:xfrm>
            <a:off x="6934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F49E-C829-4DB1-BB2F-5459D9909E1D}" type="slidenum">
              <a:rPr b="1" lang="en-US" sz="1200" spc="-1" strike="noStrike">
                <a:solidFill>
                  <a:srgbClr val="171796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171796"/>
              </a:solidFill>
              <a:latin typeface="Verdana"/>
            </a:endParaRPr>
          </a:p>
        </p:txBody>
      </p:sp>
      <p:pic>
        <p:nvPicPr>
          <p:cNvPr id="1232" name="Picture 2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7686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08:43:13Z</dcterms:created>
  <dc:creator>Geert Deveuster</dc:creator>
  <dc:description/>
  <cp:keywords/>
  <dc:language>en-US</dc:language>
  <cp:lastModifiedBy>Lythgo</cp:lastModifiedBy>
  <cp:lastPrinted>1904-01-01T00:00:00Z</cp:lastPrinted>
  <dcterms:modified xsi:type="dcterms:W3CDTF">2014-10-10T06:40:59Z</dcterms:modified>
  <cp:revision>1072</cp:revision>
  <dc:subject/>
  <dc:title>PowerPoint Presentation</dc:title>
</cp:coreProperties>
</file>